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56B68-761D-440C-A428-03C2709334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CF0A-C175-420F-85C5-65D5A3DF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45049-6A33-4AC5-A289-2FF7C93D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F3831-1648-438D-B15D-EF58C81869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72844-218E-4E59-9DC5-023EE67D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D2AD8-E463-4A3D-97D2-3A163C81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47E4B-927A-49CC-84F0-6209EEFE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0BC9-9826-4F43-A9BA-79B8A32B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66112-A947-436B-A7D3-D921471D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8F89-10C0-447B-ADBB-713E9A92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3B8A4-D9EC-46C0-A92B-0194C2EF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1DE2-57F9-46CF-88DE-7DAC0836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A95C73-A061-4542-8CA5-9E39FE24FE0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14300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800" spc="-1" strike="noStrike">
                <a:solidFill>
                  <a:srgbClr val="000000"/>
                </a:solidFill>
                <a:latin typeface="Arial"/>
              </a:rPr>
              <a:t>Stowarzyszenia w praktyc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5557680"/>
            <a:ext cx="2448000" cy="10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orzyści działania wspóln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1628640"/>
            <a:ext cx="849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SYNERGIA   - Synergiczność działań, 2 +2=5, - wspólne działanie dające większe, lepsze efekty; działania uzupełniają się poprzez kooperację (współpracę) i synchronizację. Efekt zorganizowanej pracy zespołowej, który jest wyższy niż suma efektów działań indywidualn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618920" y="2700360"/>
            <a:ext cx="10825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319640" y="2879640"/>
            <a:ext cx="1440" cy="9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5400720" y="2700360"/>
            <a:ext cx="1260360" cy="12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4140360"/>
            <a:ext cx="306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obb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3860640"/>
            <a:ext cx="19792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iarygodność publicz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3959280"/>
            <a:ext cx="2519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żliwości finansowania inicjaty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Różnice pomiędzy stowarzyszeniem a fundacj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1628640"/>
            <a:ext cx="84960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360360" y="1800360"/>
            <a:ext cx="8459640" cy="27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1. Odrębna metoda inicjacj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2. Cele i mis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3. Model  zarządzan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4. Sprawozdawczość  zewnętrz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360360" y="4680000"/>
            <a:ext cx="8459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Ad.2. Fundacja – może zostać ustanowiona dla realizacji zgodnych z podstawowymi interesami RP celów społecznie lub gospodarczo użytecznych, w szczególności takich jak: ochrona zdrowia, rozwój gospodarki i nauki, oświata i wychowanie, kultura i sztuka, opieka i pomoc społeczna, ochrona środowiska oraz opieka nad zabytkami (art. 1 Ustawy o fundacja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Finansowanie stowarzysze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4000" y="1628640"/>
            <a:ext cx="84960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619280"/>
            <a:ext cx="80996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. Składki członkowsk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2. Dotacje i dofinansowan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to może dotować: administracja rządowa i samorządowa poprzez zlecenie realizacji zadań publicznych ze środków publicznych; krajowe lub zagraniczne NGO ; Instytucje wdrażające w ramach UE ; firmy, instytucje (podmioty niepubliczn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3. Inne (darowizny, zbiórki publiczne , it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Doświadczenia FI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1628640"/>
            <a:ext cx="84960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619280"/>
            <a:ext cx="828036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brane przykłady partnerstw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*FILO – Gminy Powiatu Krakowiski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edycja Projektu „Moja Gmina – Moje miejsce w Europie” - Projekt w ramach Funduszu Inicjatyw Obywatelskich; opracowanie i wydanie zeszytów ćwiczeń dla uczniów szkół podstawowych z zakresu edukacji regionaln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*FILO – Senior For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rtnerstwo Instytucji z Polski, Danii, Grecji,  Węgier, Irlandii oraz Finlandii na rzecz wspierania mobilności zawodowej osób +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rant z Wydziału Spraw Socjalnych 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*FILO – Welcome Pack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rtnerstwo instytucji z Polski, Litwy, Danii, Szkocji oraz Norwegii w ramach projektu Grundtvig – uczenie się przez całe życie –Portal mobilności zawodow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spółdziałanie firm i producent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1628640"/>
            <a:ext cx="84960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60360" y="1619280"/>
            <a:ext cx="5940360" cy="5040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79640" y="4680000"/>
            <a:ext cx="360360" cy="36036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20720" y="539640"/>
            <a:ext cx="8099280" cy="6120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60360" y="6119640"/>
            <a:ext cx="539640" cy="54000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3959280"/>
            <a:ext cx="540000" cy="36036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800360"/>
            <a:ext cx="360360" cy="360360"/>
          </a:xfrm>
          <a:prstGeom prst="star5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rzykład współp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1628640"/>
            <a:ext cx="84960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1260360"/>
            <a:ext cx="4983120" cy="5183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040440" y="1492200"/>
            <a:ext cx="2419200" cy="26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763640" y="1268280"/>
            <a:ext cx="56167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Dziękuję za uwagę </a:t>
            </a:r>
            <a:r>
              <a:rPr b="0" lang="pl-P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Dawid Drabik – dawid@filo.org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Fundacja Inicjatyw Lokalnych i Oświatow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l. A.Stopki 4 32-065 Krzeszow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ww.filo.org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o co stowarzyszeni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857240"/>
            <a:ext cx="82296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Stowarzyszenie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– dobrowolne, samorządne, trwałe zrzeszenie osób realizujące swoje cele w sposób niezarobkow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193480" y="2708280"/>
            <a:ext cx="12272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292720" y="2781360"/>
            <a:ext cx="1150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149720"/>
            <a:ext cx="33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Ustawa Prawo o stowarzyszeniach z 7 kwietnia 1989 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796000" y="4292640"/>
            <a:ext cx="2952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Ustawa o działalności pożytku publicznego i o wolontariacie, z 24 kwietnia 2003 r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2637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kty praw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Cechy stowarzysze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1628640"/>
            <a:ext cx="856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browolność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swoboda organizacyjna stowarzyszeń oraz nieprzymuszona wola uczestnictwa członk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amorządność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swoboda w ustalaniu zasad działalności wewnętrznej oraz niezależność w stosunku do podmiotów zewnętrz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rwałość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istnieje bez względu na konkretny skład osobowy z zachowaniem odpowiedniej ilości członk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zarobkowy ce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członkowie nie odnoszą korzyści majątkowych w związku z członkowstwem w stowarzyszeniu – non prof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Rodzaje stowarzysze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170028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owarzyszenia zarejestrowane w Krajowym Rejestrze Sądowym (KRS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owarzyszenia zwykłe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owarzyszenia jednostek samorządu terytorialnego (np..Związek Gmin i Powiatów Małopolsk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wiązki stowarzyszeń (federacje) zarejestrowane w KRS;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kluby sportowe tzw. stowarzyszenia kultury fizycznej, uczniowskie kluby sportow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Stowarzyszenia rejestrow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1484280"/>
            <a:ext cx="4753080" cy="31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Stowarzyszenie zarejestrowane w KR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jest tworzone przez członków (do założenia stowarzyszenia koniecznych jest min. 15 osób)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zorganizowane jest w sposób demokratyczny (najwyższą władzą jest walne zgromadzenie)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jest organizacją pozarządową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jest organizacją nienastawioną na zysk, powoływaną w celach niezarobkowych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ma osobowość prawną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działa w oparciu o statut (statut to podstawowy dokument, określający nazwę organizacji, jej cele, wewnętrzną strukturę itp.)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jest rejestrowane w Krajowym Rejestrze Sądowy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1773360"/>
            <a:ext cx="30974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W związku z rejestracją w KRS stowarzyszenie moż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przyjmować darowizny, spadki, zapisy, otrzymywać dotacje, korzystać z ofiarności publicznej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podejmować finansową współpracę z administracją publiczną i biznesem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prowadzić działalność gospodarczą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łączyć się w związki stowarzyszeń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powoływać oddziały terenowe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- ubiegać się o status organizacji pożytku publiczneg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565360"/>
            <a:ext cx="1079640" cy="1008000"/>
          </a:xfrm>
          <a:prstGeom prst="rightArrow">
            <a:avLst>
              <a:gd name="adj1" fmla="val 50000"/>
              <a:gd name="adj2" fmla="val 2677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Charakterysty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1484280"/>
            <a:ext cx="331308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to zakład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minimum 15 osób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osoby fizycz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osoby mające pełną zdolność do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czynności prawn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obywatele pols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cudzoziemcy, jeśli mają miejsce zamieszkania w Pols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4365720"/>
            <a:ext cx="46083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złonkow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obywatele polscy ( cudzoziemcy zgodnie ze statute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osoby mające pełną zdolność do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pełnienia czynności prawn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osoba prawna – jedynie jako członek wspierający, nie ma prawa głosu w organach stowarzysze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4360" y="1773360"/>
            <a:ext cx="32400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jąt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nie jest potrzebny na etapie zakładania stowarzyszeni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członkowie płacą obowiązkowe składk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3284640"/>
            <a:ext cx="2880000" cy="24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gany władz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Zarzą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obowiązkowy organ kontroli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ewnętrznej (np. komisja rewizyjn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najwyższą władzą stowarzyszenia jest walne zgromadzenie członków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83280" y="1052640"/>
            <a:ext cx="2160720" cy="19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dzó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organem kontroli zewnętrznej i nadzoru jest starosta powiatu właściwy ze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zględu na siedzibę stowarzyszenia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780000" y="3498480"/>
            <a:ext cx="1800000" cy="101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490560" y="3355560"/>
            <a:ext cx="2235240" cy="144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282920" y="3213000"/>
            <a:ext cx="86688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419640" y="3066840"/>
            <a:ext cx="3600360" cy="79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Jak założyć stowarzysze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1413000"/>
            <a:ext cx="864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Stowarzyszenie zarejestrowane powołuje co najmniej 15 osób, które uchwalaj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statut stowarzyszenia i wybierają komitet założycielski (art. 9). Następnie składaj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dokumenty o rejestrację w Krajowym Rejestrze Sądowy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421000"/>
            <a:ext cx="842472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tut stowarzysze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usi zawierać takie podstawowe informacje o stowarzyszeniu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ak (art. 10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zwę (odróżniająca dane stowarzyszenie od innych organizacji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ytucji itp.)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en działania i siedzibę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le i sposoby ich realizacji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nabycia/przyczyny utraty członkostwa, prawa i obowiązk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złonków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ładze stowarzyszenia, sposób ich wyboru, kompetencje (w ty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sady działania: walnego zebrania członków, zarządu, komisji rewizyjnej)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reprezentowania, zaciągania zobowiązań majątkowych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arunki ważności uchwał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uzyskiwania środków finansowych i płacenia składek członkowskich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sady wprowadzania zmian w statucie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rozwiązania się stowarzyszen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Jak założyć stowarzysze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4000" y="1628640"/>
            <a:ext cx="8496000" cy="29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2. Zebranie i komitet założycielsk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Następnym krokiem prowadzącym do zarejestrowania stowarzyszenia jest zwoła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zebrania założycielskiego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. Na zebraniu założycielskim przede wszystki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podejmujemy uchwałę o powołaniu do życia stowarzyszenia i wybieramy komit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założycielsk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Co procedujem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Uchwałę o powołaniu stowarzysze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Uchwałę o przyjęciu statu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Uchwała o wyborze komitetu założycielskiego  (niezbędna do rejestracji w KR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Ewentualna uchwała o wyborze władz: zarządu i organu kontroli wewnętrzne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Jak założyć stowarzysze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372360" y="5619600"/>
            <a:ext cx="2771640" cy="1238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1628640"/>
            <a:ext cx="849600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3. Rejestracja w Krajowym Rejestrze Sądowy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XII Wydział K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31-547 Kraków ul. Przy Rondzie 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niosek rejestracyjny to formularze i dokumenty (załączniki). Cały wniosek rejestracyjny składamy w dwóch oryginalnych egzemplarzach. Wniosek o rejestrację nowego stowarzyszenia w Krajowym Rejestrze Sądowym i wszystkie formularze podpisuje komitet założycielski. Członkowie komitetu założycielskiego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Verdana"/>
              </a:rPr>
              <a:t>muszą, w ciągu 7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dni od dnia zamknięc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zebrania założycielskiego, złożyć we właściwym sądzie formularze o rejestrację 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Krajowym Rejestrze Sądowym wraz z wymaganymi dokumentam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Rejestracja stowarzyszenia, które nie rejestruje działalności gospodarczej powinna być bezpłatna. A rejestracja stowarzyszenia, które rejestruje jednocześnie działalność gospodarczą będzie kosztowała 1500 z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Sąd ma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3 miesiące, od dnia złożenia wniosku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, na rozstrzygnięcie wniosku o zarejestrowa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stowarzysze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9:35:16Z</dcterms:created>
  <dc:creator>Dawid Drabik</dc:creator>
  <dc:description/>
  <dc:language>en-US</dc:language>
  <cp:lastModifiedBy>TM</cp:lastModifiedBy>
  <dcterms:modified xsi:type="dcterms:W3CDTF">2009-11-09T22:46:30Z</dcterms:modified>
  <cp:revision>3</cp:revision>
  <dc:subject/>
  <dc:title>Zakładanie Stowarzyszenia</dc:title>
</cp:coreProperties>
</file>