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7.wmf" ContentType="image/x-wmf"/>
  <Override PartName="/ppt/media/image23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6.png" ContentType="image/png"/>
  <Override PartName="/ppt/media/image6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4406492137"/>
          <c:y val="0.0590469190248683"/>
          <c:w val="0.960020173307047"/>
          <c:h val="0.648658581403896"/>
        </c:manualLayout>
      </c:layout>
      <c:barChart>
        <c:barDir val="bar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Głęboka patologia organizacyjna</c:v>
                </c:pt>
              </c:strCache>
            </c:strRef>
          </c:tx>
          <c:spPr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c:spPr>
          <c:invertIfNegative val="0"/>
          <c:dLbls>
            <c:txPr>
              <a:bodyPr wrap="none"/>
              <a:lstStyle/>
              <a:p>
                <a:pPr>
                  <a:defRPr b="0" sz="38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Kolumna H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"/>
                <c:pt idx="0">
                  <c:v>0.2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Niedojrzałość organizacyjna</c:v>
                </c:pt>
              </c:strCache>
            </c:strRef>
          </c:tx>
          <c:spPr>
            <a:solidFill>
              <a:srgbClr val="800080"/>
            </a:solidFill>
            <a:ln w="12600">
              <a:solidFill>
                <a:srgbClr val="ffcc00"/>
              </a:solidFill>
              <a:round/>
            </a:ln>
          </c:spPr>
          <c:invertIfNegative val="0"/>
          <c:dLbls>
            <c:txPr>
              <a:bodyPr wrap="none"/>
              <a:lstStyle/>
              <a:p>
                <a:pPr>
                  <a:defRPr b="0" sz="38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Kolumna H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"/>
                <c:pt idx="0">
                  <c:v>0.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Organizacja rozwijająca się</c:v>
                </c:pt>
              </c:strCache>
            </c:strRef>
          </c:tx>
          <c:spPr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c:spPr>
          <c:invertIfNegative val="0"/>
          <c:dLbls>
            <c:txPr>
              <a:bodyPr wrap="none"/>
              <a:lstStyle/>
              <a:p>
                <a:pPr>
                  <a:defRPr b="0" sz="38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Kolumna H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"/>
                <c:pt idx="0">
                  <c:v>0.2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Organizacja dojrzała</c:v>
                </c:pt>
              </c:strCache>
            </c:strRef>
          </c:tx>
          <c:spPr>
            <a:solidFill>
              <a:srgbClr val="6b4794"/>
            </a:solidFill>
            <a:ln w="12600">
              <a:solidFill>
                <a:srgbClr val="339966"/>
              </a:solidFill>
              <a:round/>
            </a:ln>
          </c:spPr>
          <c:invertIfNegative val="0"/>
          <c:dLbls>
            <c:txPr>
              <a:bodyPr wrap="none"/>
              <a:lstStyle/>
              <a:p>
                <a:pPr>
                  <a:defRPr b="0" sz="38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"/>
                <c:pt idx="0">
                  <c:v>Kolumna H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"/>
                <c:pt idx="0">
                  <c:v>0.25</c:v>
                </c:pt>
              </c:numCache>
            </c:numRef>
          </c:val>
        </c:ser>
        <c:gapWidth val="150"/>
        <c:overlap val="100"/>
        <c:axId val="53822908"/>
        <c:axId val="44188137"/>
      </c:barChart>
      <c:catAx>
        <c:axId val="53822908"/>
        <c:scaling>
          <c:orientation val="maxMin"/>
        </c:scaling>
        <c:delete val="0"/>
        <c:axPos val="b"/>
        <c:numFmt formatCode="0.00%" sourceLinked="0"/>
        <c:majorTickMark val="out"/>
        <c:minorTickMark val="none"/>
        <c:tickLblPos val="none"/>
        <c:spPr>
          <a:ln w="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Arial"/>
              </a:defRPr>
            </a:pPr>
          </a:p>
        </c:txPr>
        <c:crossAx val="44188137"/>
        <c:crosses val="autoZero"/>
        <c:auto val="1"/>
        <c:lblAlgn val="ctr"/>
        <c:lblOffset val="100"/>
        <c:noMultiLvlLbl val="0"/>
      </c:catAx>
      <c:valAx>
        <c:axId val="44188137"/>
        <c:scaling>
          <c:orientation val="minMax"/>
          <c:max val="1"/>
          <c:min val="0"/>
        </c:scaling>
        <c:delete val="0"/>
        <c:axPos val="l"/>
        <c:majorGridlines>
          <c:spPr>
            <a:ln w="0">
              <a:solidFill>
                <a:srgbClr val="808080"/>
              </a:solidFill>
            </a:ln>
          </c:spPr>
        </c:majorGridlines>
        <c:numFmt formatCode="0.00%" sourceLinked="0"/>
        <c:majorTickMark val="out"/>
        <c:minorTickMark val="none"/>
        <c:tickLblPos val="nextTo"/>
        <c:spPr>
          <a:ln w="0">
            <a:solidFill>
              <a:srgbClr val="808080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  <a:ea typeface="Arial"/>
              </a:defRPr>
            </a:pPr>
          </a:p>
        </c:txPr>
        <c:crossAx val="53822908"/>
        <c:crosses val="max"/>
        <c:crossBetween val="between"/>
        <c:majorUnit val="0.1"/>
      </c:valAx>
      <c:spPr>
        <a:solidFill>
          <a:srgbClr val="ffffff"/>
        </a:solidFill>
        <a:ln w="0">
          <a:noFill/>
        </a:ln>
      </c:spPr>
    </c:plotArea>
    <c:legend>
      <c:legendPos val="b"/>
      <c:layout>
        <c:manualLayout>
          <c:xMode val="edge"/>
          <c:yMode val="edge"/>
          <c:x val="0.0854614643986979"/>
          <c:y val="0.74739679039568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5" spc="-1" strike="noStrike">
              <a:solidFill>
                <a:srgbClr val="000000"/>
              </a:solidFill>
              <a:latin typeface="Calibri"/>
              <a:ea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solidFill>
        <a:srgbClr val="808080"/>
      </a:solidFill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282" spc="-1" strike="noStrike">
                <a:solidFill>
                  <a:srgbClr val="000000"/>
                </a:solidFill>
                <a:latin typeface="Arial"/>
                <a:ea typeface="Arial"/>
              </a:defRPr>
            </a:pPr>
            <a:r>
              <a:rPr b="0" sz="1282" spc="-1" strike="noStrike">
                <a:solidFill>
                  <a:srgbClr val="000000"/>
                </a:solidFill>
                <a:latin typeface="Arial"/>
                <a:ea typeface="Arial"/>
              </a:rPr>
              <a:t>Słabe punkty</a:t>
            </a:r>
          </a:p>
        </c:rich>
      </c:tx>
      <c:layout>
        <c:manualLayout>
          <c:xMode val="edge"/>
          <c:yMode val="edge"/>
          <c:x val="0.442215939211875"/>
          <c:y val="0.0202698212268226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240148436119"/>
          <c:y val="0.0945703462484216"/>
          <c:w val="0.960063615479767"/>
          <c:h val="0.88542566624576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Kolumna B</c:v>
                </c:pt>
              </c:strCache>
            </c:strRef>
          </c:tx>
          <c:spPr>
            <a:solidFill>
              <a:srgbClr val="ff6f00"/>
            </a:solidFill>
            <a:ln w="0">
              <a:solidFill>
                <a:srgbClr val="000000"/>
              </a:solidFill>
            </a:ln>
          </c:spPr>
          <c:invertIfNegative val="0"/>
          <c:dPt>
            <c:idx val="0"/>
            <c:invertIfNegative val="0"/>
            <c:spPr>
              <a:solidFill>
                <a:srgbClr val="000080"/>
              </a:solidFill>
              <a:ln w="0">
                <a:solidFill>
                  <a:srgbClr val="000000"/>
                </a:solidFill>
              </a:ln>
            </c:spPr>
          </c:dPt>
          <c:dPt>
            <c:idx val="1"/>
            <c:invertIfNegative val="0"/>
            <c:spPr>
              <a:solidFill>
                <a:srgbClr val="000080"/>
              </a:solidFill>
              <a:ln w="0">
                <a:solidFill>
                  <a:srgbClr val="000000"/>
                </a:solidFill>
              </a:ln>
            </c:spPr>
          </c:dPt>
          <c:dPt>
            <c:idx val="2"/>
            <c:invertIfNegative val="0"/>
            <c:spPr>
              <a:solidFill>
                <a:srgbClr val="000080"/>
              </a:solidFill>
              <a:ln w="0">
                <a:solidFill>
                  <a:srgbClr val="000000"/>
                </a:solidFill>
              </a:ln>
            </c:spPr>
          </c:dPt>
          <c:dPt>
            <c:idx val="3"/>
            <c:invertIfNegative val="0"/>
            <c:spPr>
              <a:solidFill>
                <a:srgbClr val="000080"/>
              </a:solidFill>
              <a:ln w="0">
                <a:solidFill>
                  <a:srgbClr val="000000"/>
                </a:solidFill>
              </a:ln>
            </c:spPr>
          </c:dPt>
          <c:dPt>
            <c:idx val="4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5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6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7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8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9"/>
            <c:invertIfNegative val="0"/>
            <c:spPr>
              <a:solidFill>
                <a:srgbClr val="ff0000"/>
              </a:solidFill>
              <a:ln w="0">
                <a:solidFill>
                  <a:srgbClr val="000000"/>
                </a:solidFill>
              </a:ln>
            </c:spPr>
          </c:dPt>
          <c:dPt>
            <c:idx val="10"/>
            <c:invertIfNegative val="0"/>
            <c:spPr>
              <a:solidFill>
                <a:srgbClr val="ffff00"/>
              </a:solidFill>
              <a:ln w="0">
                <a:solidFill>
                  <a:srgbClr val="000000"/>
                </a:solidFill>
              </a:ln>
            </c:spPr>
          </c:dPt>
          <c:dPt>
            <c:idx val="11"/>
            <c:invertIfNegative val="0"/>
            <c:spPr>
              <a:solidFill>
                <a:srgbClr val="ffff00"/>
              </a:solidFill>
              <a:ln w="0">
                <a:solidFill>
                  <a:srgbClr val="000000"/>
                </a:solidFill>
              </a:ln>
            </c:spPr>
          </c:dPt>
          <c:dPt>
            <c:idx val="12"/>
            <c:invertIfNegative val="0"/>
            <c:spPr>
              <a:solidFill>
                <a:srgbClr val="ffff00"/>
              </a:solidFill>
              <a:ln w="0">
                <a:solidFill>
                  <a:srgbClr val="000000"/>
                </a:solidFill>
              </a:ln>
            </c:spPr>
          </c:dPt>
          <c:dPt>
            <c:idx val="13"/>
            <c:invertIfNegative val="0"/>
            <c:spPr>
              <a:solidFill>
                <a:srgbClr val="ffff00"/>
              </a:solidFill>
              <a:ln w="0">
                <a:solidFill>
                  <a:srgbClr val="000000"/>
                </a:solidFill>
              </a:ln>
            </c:spPr>
          </c:dPt>
          <c:dPt>
            <c:idx val="14"/>
            <c:invertIfNegative val="0"/>
            <c:spPr>
              <a:solidFill>
                <a:srgbClr val="008000"/>
              </a:solidFill>
              <a:ln w="0">
                <a:solidFill>
                  <a:srgbClr val="000000"/>
                </a:solidFill>
              </a:ln>
            </c:spPr>
          </c:dPt>
          <c:dPt>
            <c:idx val="15"/>
            <c:invertIfNegative val="0"/>
            <c:spPr>
              <a:solidFill>
                <a:srgbClr val="008000"/>
              </a:solidFill>
              <a:ln w="0">
                <a:solidFill>
                  <a:srgbClr val="000000"/>
                </a:solidFill>
              </a:ln>
            </c:spPr>
          </c:dPt>
          <c:dPt>
            <c:idx val="16"/>
            <c:invertIfNegative val="0"/>
            <c:spPr>
              <a:solidFill>
                <a:srgbClr val="008000"/>
              </a:solidFill>
              <a:ln w="0">
                <a:solidFill>
                  <a:srgbClr val="000000"/>
                </a:solidFill>
              </a:ln>
            </c:spPr>
          </c:dPt>
          <c:dPt>
            <c:idx val="17"/>
            <c:invertIfNegative val="0"/>
            <c:spPr>
              <a:solidFill>
                <a:srgbClr val="008000"/>
              </a:solidFill>
              <a:ln w="0">
                <a:solidFill>
                  <a:srgbClr val="000000"/>
                </a:solidFill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4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5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6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7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8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9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0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1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2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3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4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5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6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7"/>
              <c:numFmt formatCode="General" sourceLinked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dLblPos val="outEnd"/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8"/>
                <c:pt idx="0">
                  <c:v>Życzliwość</c:v>
                </c:pt>
                <c:pt idx="1">
                  <c:v>Relacje z przełożonymi</c:v>
                </c:pt>
                <c:pt idx="2">
                  <c:v>Relacje ze współpracownikami</c:v>
                </c:pt>
                <c:pt idx="3">
                  <c:v>Zaufanie</c:v>
                </c:pt>
                <c:pt idx="4">
                  <c:v>Komunikacja</c:v>
                </c:pt>
                <c:pt idx="5">
                  <c:v>Dostęp do informacji</c:v>
                </c:pt>
                <c:pt idx="6">
                  <c:v>Rekrutacja</c:v>
                </c:pt>
                <c:pt idx="7">
                  <c:v>System rozwoju</c:v>
                </c:pt>
                <c:pt idx="8">
                  <c:v>System ocen</c:v>
                </c:pt>
                <c:pt idx="9">
                  <c:v>Wynagrodzenia</c:v>
                </c:pt>
                <c:pt idx="10">
                  <c:v>Gotowość do partycypacji</c:v>
                </c:pt>
                <c:pt idx="11">
                  <c:v>Doskonalenie procesów</c:v>
                </c:pt>
                <c:pt idx="12">
                  <c:v>Odpowiedzialość</c:v>
                </c:pt>
                <c:pt idx="13">
                  <c:v>Relacje zewnętrzne</c:v>
                </c:pt>
                <c:pt idx="14">
                  <c:v>Zabawa</c:v>
                </c:pt>
                <c:pt idx="15">
                  <c:v>Zadowolenie</c:v>
                </c:pt>
                <c:pt idx="16">
                  <c:v>Identyfikacja z organizacją</c:v>
                </c:pt>
                <c:pt idx="17">
                  <c:v>Samorealizacja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8"/>
                <c:pt idx="0">
                  <c:v>9</c:v>
                </c:pt>
                <c:pt idx="1">
                  <c:v>13</c:v>
                </c:pt>
                <c:pt idx="2">
                  <c:v>11</c:v>
                </c:pt>
                <c:pt idx="3">
                  <c:v>6</c:v>
                </c:pt>
                <c:pt idx="4">
                  <c:v>4</c:v>
                </c:pt>
                <c:pt idx="5">
                  <c:v>-4</c:v>
                </c:pt>
                <c:pt idx="6">
                  <c:v>-1</c:v>
                </c:pt>
                <c:pt idx="7">
                  <c:v>-2</c:v>
                </c:pt>
                <c:pt idx="8">
                  <c:v>-5</c:v>
                </c:pt>
                <c:pt idx="9">
                  <c:v>-8</c:v>
                </c:pt>
                <c:pt idx="10">
                  <c:v>13</c:v>
                </c:pt>
                <c:pt idx="11">
                  <c:v>4</c:v>
                </c:pt>
                <c:pt idx="12">
                  <c:v>3</c:v>
                </c:pt>
                <c:pt idx="13">
                  <c:v>5</c:v>
                </c:pt>
                <c:pt idx="14">
                  <c:v>5</c:v>
                </c:pt>
                <c:pt idx="15">
                  <c:v>18</c:v>
                </c:pt>
                <c:pt idx="16">
                  <c:v>11</c:v>
                </c:pt>
                <c:pt idx="17">
                  <c:v>12</c:v>
                </c:pt>
              </c:numCache>
            </c:numRef>
          </c:val>
        </c:ser>
        <c:gapWidth val="0"/>
        <c:overlap val="0"/>
        <c:axId val="71356318"/>
        <c:axId val="84805800"/>
      </c:barChart>
      <c:catAx>
        <c:axId val="7135631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 rot="-5400000"/>
          <a:lstStyle/>
          <a:p>
            <a:pPr>
              <a:defRPr b="0" sz="11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4805800"/>
        <c:crosses val="autoZero"/>
        <c:auto val="1"/>
        <c:lblAlgn val="ctr"/>
        <c:lblOffset val="100"/>
        <c:noMultiLvlLbl val="0"/>
      </c:catAx>
      <c:valAx>
        <c:axId val="84805800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1356318"/>
        <c:crosses val="min"/>
        <c:crossBetween val="between"/>
      </c:valAx>
      <c:spPr>
        <a:noFill/>
        <a:ln w="0">
          <a:noFill/>
        </a:ln>
      </c:spPr>
    </c:plotArea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" Target="../slides/slide6.xml"/><Relationship Id="rId7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" Target="../slides/slide7.xml"/><Relationship Id="rId7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209600" y="69516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6582E-F3A8-473F-8715-F46A22D7C6E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0EFDB-83D0-4B62-90CB-D5C2033DAD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"/>
          <p:cNvSpPr/>
          <p:nvPr/>
        </p:nvSpPr>
        <p:spPr>
          <a:xfrm>
            <a:off x="1440000" y="563400"/>
            <a:ext cx="5413320" cy="20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86306-4B2F-41E5-B38D-D1119D5200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9E274-2CBA-408F-945F-041707F6654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"/>
          <p:cNvSpPr/>
          <p:nvPr/>
        </p:nvSpPr>
        <p:spPr>
          <a:xfrm>
            <a:off x="2062080" y="685800"/>
            <a:ext cx="2708280" cy="339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003320" y="695160"/>
            <a:ext cx="4830840" cy="341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003320" y="695160"/>
            <a:ext cx="4797360" cy="33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-14227200" y="-1179684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003320" y="695160"/>
            <a:ext cx="4792680" cy="337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B60FF-969E-413B-9F3B-4939074706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-14227200" y="-11796840"/>
            <a:ext cx="1665612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003320" y="695160"/>
            <a:ext cx="4797360" cy="33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003320" y="695160"/>
            <a:ext cx="4797360" cy="33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003320" y="695160"/>
            <a:ext cx="4797360" cy="338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062080" y="685800"/>
            <a:ext cx="27273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1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1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Druckerem (1994), Prahladem i Bettisem (1986) i Obłojem (2003) zakłdamy, że każda firma jest specyficzn dziedziną wiedzy wymagającą odrębnej teorii do jej rozwiązan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2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Nitsunem (1998), Bernem (1994) i Weickiem (1979 i 2001) zakładamy, że indywidulane struktury poznawcze, szczególnie teorie top managementu i teorie organizacji stanowią wewnętrzny kontekst rozwoju organizacji równie ważny jak kontekst zewnętrzn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3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Staniszkis (2003), Piagetem (1981) złożoność struktur instytucjonalnych i procesów ma sens jedynie jesli niesie za soba odpowiadająca im złożoność struktur poznawczych u osób wprowadzjących te struktu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4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Kwiatkowskim (1947) im więcej osób rozumie zożoność praw rządzących systemem tym większa szansa na jego ropzwój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5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Wojtyłą (1969) przyjmujemy, ze indywidualizm i totalizm jest efektem pozbawienia osoby przymiotu uczestnictwa na poziomie indywidualnych teorii świ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2062080" y="685800"/>
            <a:ext cx="27273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128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1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Druckerem (1994), Prahladem i Bettisem (1986) i Obłojem (2003) zakłdamy, że każda firma jest specyficzn dziedziną wiedzy wymagającą odrębnej teorii do jej rozwiązani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2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Nitsunem (1998), Bernem (1994) i Weickiem (1979 i 2001) zakładamy, że indywidulane struktury poznawcze, szczególnie teorie top managementu i teorie organizacji stanowią wewnętrzny kontekst rozwoju organizacji równie ważny jak kontekst zewnętrzn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3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Staniszkis (2003), Piagetem (1981) złożoność struktur instytucjonalnych i procesów ma sens jedynie jesli niesie za soba odpowiadająca im złożoność struktur poznawczych u osób wprowadzjących te struktu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4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Kwiatkowskim (1947) im więcej osób rozumie zożoność praw rządzących systemem tym większa szansa na jego ropzwój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720" indent="-236520">
              <a:lnSpc>
                <a:spcPct val="70000"/>
              </a:lnSpc>
              <a:spcBef>
                <a:spcPts val="799"/>
              </a:spcBef>
              <a:buSzPct val="102950"/>
              <a:buBlip>
                <a:blip r:embed="rId5"/>
              </a:buBlip>
              <a:tabLst>
                <a:tab algn="l" pos="693720"/>
                <a:tab algn="l" pos="114156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Arial"/>
              </a:rPr>
              <a:t>Za Wojtyłą (1969) przyjmujemy, ze indywidualizm i totalizm jest efektem pozbawienia osoby przymiotu uczestnictwa na poziomie indywidualnych teorii świa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143000" y="685800"/>
            <a:ext cx="4549680" cy="34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-11798280" y="-11796840"/>
            <a:ext cx="11795040" cy="12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EB909-F8AF-4106-8C0D-E8A221E047A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413C7-0B95-4B5F-85D8-9F1373A2C2B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D9DA2-3AF4-4BF4-BB65-76BD1012210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1248C-5EC8-4321-A762-D73673E77D9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C219C-CF4F-4E1D-B970-F270FFF54B3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F3677-0983-4A56-9BDF-F3A21D7EA43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03C516-280C-4B9F-88E3-5B7F55B6969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E6B062-A850-4EDA-A91F-FCA9C52184C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F97873-E7E8-4DDB-B052-F496EF1957E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130C1-14A5-47EB-B9EE-A6AE8B949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F3D28-E8AA-49C4-BEED-11B1B125389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0337A-5C7A-47C4-9213-D5D0CF31FF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BE0A-11FE-4B2B-9C86-576964CDC22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3F1F5-F093-4A6A-A708-5A2ECB5A020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4A1A7-9869-4541-8036-0E7347B5652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AE24C-EF93-4D6F-BB07-A4836D82873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11F05-CBF2-428D-89C3-5AF5762AD8B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1B5B-FCA1-443A-9438-9169C4C51EC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2A52-A66E-47D0-A88D-371AEC9CE6E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C588-EA0C-4B06-8FB8-ECCCC79CA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CD57A-66C3-4054-8FD7-92986591D49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28B3CB-1E7A-48D1-80A0-12D72B80DC9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282E18-C8CE-4023-B658-5586FFA6366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164027-DD40-4C32-9155-9C0E7C1C9F1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6203B-F9E4-4AF1-82BB-6FE516022FC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306ABD-903F-469C-8DDA-C65672606B8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6FED2E-2433-49D7-96C8-C31FAD81B87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5D17F-3B58-4526-9724-5E6A4EB2370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17BB9-F6E1-42D7-A09E-2F40BBED6D8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13B2FD-ADB7-4B07-A091-3B54DAA32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49FA4-2A72-4523-89C2-B5F2BBECA9C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286E2D-C802-4555-BFA7-6F8C171918B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F4C661-5E19-44C9-8974-6918D554351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B21933-759A-4023-B57F-21733B9C43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B4E1-C489-4270-B929-9D5C67F16A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B498-2482-4EC7-9DF2-DDCA9D43FE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9CAB-195E-4105-928B-7ABE142530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F85B-370B-44BC-8C13-CD38B91A4B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E394-22E7-470C-A1EC-8DD9CF7660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EC51-E211-4EA5-B8A9-E49B692742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67C8C-2FBF-4399-9FA1-3952DC6176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A2BD-9924-4EC1-BA7C-2AA970E799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6BBF-53EA-4D60-BC1C-95D7E9F68A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486F-EE79-46AD-88F7-62905819DB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C87EF-3E70-4A71-97AF-CC47BCDC28A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D219-A2C1-4984-AC96-1037A862AD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6F3B-E0BB-498D-AC95-1C7708CB3B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38C0-7061-4776-8ABE-5942F00C98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FE18-222E-4B05-94EC-6388D4B292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AEFF-0594-4D9A-A5E9-7110F2E347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45D90-526E-4372-9501-1E2FBBF41C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0BCFE-954F-40B9-8465-C6702E8EA9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6274E-EABB-4B8A-8EF3-9185AE55AE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5E4E7-3699-4444-A487-87BAFA6EEA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EEDA1-0EEC-43F2-B5D9-99DF1B852A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0852-7CB1-44A8-82D1-A61470915D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55872-420C-4943-9A83-F5D6A4AC71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ED1-FE7E-4E15-83EF-FAA41B62A5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B54-E9A0-4526-9A36-7EAB6CFD92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75BE-8D68-493F-8FE5-8A3C08169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BB8-8A36-4A40-BF15-9985249B47B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A98-C572-4C39-8471-30C034CD81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AFED-B08E-4E44-854C-78535D1EBF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5F1-708E-4A79-A1A0-152687B92C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2B4-7C4E-4FB8-9507-3EB8B52DA8C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F7E-65CF-4F3A-A08C-F23F6EBDC4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387-1D1B-4A47-B75C-B6EC382D94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F206-6390-40F3-8504-4A91992CC3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E15-CD30-4531-939F-8E221E56A40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B12AA-8838-422C-99AA-3D628172D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5A2AB-9B89-41B6-AB19-0190D9BBE04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F90F9-DBE5-41C3-9065-EB7ED33D8BC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433FE-D3F7-408A-A776-C4BBFA12639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4E70E-6125-4D3C-9FD0-902A97BE236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8757C-AD0A-45BF-929A-809EA0224F7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F199A-A720-472C-8D56-65E8AA74DB8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A30FB-C967-4DF9-9A61-E0B28674BD8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325F2-28FC-4149-A4F5-2EF811D212F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A4318-322E-4B8F-9E9B-6BA65EFBE1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A38FB-09DE-462A-AB1C-F1E4F7B8A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F5782-D473-4BCB-A9F0-09DA2246818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55EE4-A595-4554-B563-BB27F4D6E1E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D20CF-570A-47CF-B171-0AA562B8F71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0535E-F593-460A-B65B-547B3BDC74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36ABC-CEF5-41D3-957D-CC3AAF8BD95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A995B-9774-4DFF-88BF-A10633DDED2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8DBA0-8720-4CA6-9A4C-8318D431535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123B4-B3F8-47CD-88D2-8925A75D47C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9C039-C180-4831-8DA1-1A9CF859CD9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43FDC-4E71-4AFC-ADC1-0BE27FBDA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BA87C-9286-443A-93FE-A2282DCC11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B0A8B-4354-415A-B404-5A3C55ACA30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FA4EB-5177-4159-9B15-5DC3E4D36C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27BB-5A79-4478-9B9A-9231272CC1D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C345-09A9-41EB-ABE3-CADDEA3A87C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8798-F922-4106-89D0-C0610740130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4886-267C-49C8-9512-C3C9756C033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C0A2-3BEA-4D85-8D71-5AB899E71B9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997F-8651-4C23-BD07-E43D22339CA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939C-0C4D-4DAF-AC68-EABBDCCEE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E33E-8531-4B63-A937-6F89C14CAF5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EB61-8241-4928-B263-326BBD09038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B5A9-CA82-498C-9A7C-DFFFB78A81E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C9E6-328E-4921-975B-EF6CA2EEA86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4942-C9DB-487F-B6AC-DFD8E853B0F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C1B5C-BC0D-467F-B2B9-9EC66DA973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7507D4-CCD3-4738-BD8C-C71732AA65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9AFAD-40B3-465B-B362-411ED6725EF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D39ACE-38C9-4A1C-90F0-56413D86277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86E43-F295-477B-B281-09AB7E367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170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2C482-B5F8-4DAB-A8A4-560704AAB5A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BAC043-40FA-4BD4-9231-884A02681ED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5EF58-F669-45F6-8E90-5918F9A3858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707A1-3A1D-426B-8B2C-FBD63C35DE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C7398C-F976-4E18-B2FA-3D196E33E92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7400" y="160452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67400" y="396216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48287-F416-4116-A037-DCE12C0554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532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13440" y="160452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532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13440" y="396216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C61969-76AD-469B-BB9E-7AB8E69657E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DD48C-3CC2-47E0-9F04-68008495B82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CA7E0-2D30-4293-B399-8E6D25855C7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DA5DD-4020-4BCF-9A0A-B87F48F93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170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18F3B5-AC31-48A9-9216-5BEE1A27CDE6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55F2EC-E438-410C-A4CA-90932455C5CF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B8014F-25F9-4D9D-BD44-405E1CA31CAA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146D66-5917-4998-AF33-6405AD5D21CF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15200" cy="13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152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990B95A-AA31-44BA-A355-7D0F858B455D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33FB24-0252-4ADF-95FC-395650811AF6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D144E69-40FF-42A9-AB8C-D0F17C2C3C69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6F1AAE-F503-4203-8EC3-A9DA7682DAFD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5D449A-DB01-4D41-A91B-AF0CB49D7CD9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19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E878AA1-C91B-4D40-9888-BB498F3A24B3}" type="slidenum">
              <a:rPr b="0" lang="pl-PL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54000" y="1828800"/>
            <a:ext cx="2897280" cy="2905200"/>
          </a:xfrm>
          <a:prstGeom prst="ellipse">
            <a:avLst/>
          </a:prstGeom>
          <a:solidFill>
            <a:srgbClr val="b80047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"/>
          <p:cNvSpPr/>
          <p:nvPr/>
        </p:nvSpPr>
        <p:spPr>
          <a:xfrm>
            <a:off x="2676600" y="1828800"/>
            <a:ext cx="2921040" cy="28605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"/>
          <p:cNvSpPr/>
          <p:nvPr/>
        </p:nvSpPr>
        <p:spPr>
          <a:xfrm>
            <a:off x="2097000" y="3159000"/>
            <a:ext cx="2792520" cy="285588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19240"/>
            <a:ext cx="82249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elkie  Igrzyska  Olimpij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/>
          <p:nvPr/>
        </p:nvSpPr>
        <p:spPr>
          <a:xfrm rot="20220000">
            <a:off x="4844880" y="-101520"/>
            <a:ext cx="140832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800" spc="-1" strike="noStrike">
                <a:solidFill>
                  <a:srgbClr val="ff0000"/>
                </a:solidFill>
                <a:latin typeface="Handwriting - Dakota"/>
              </a:rPr>
              <a:t>Ni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"/>
          <p:cNvSpPr/>
          <p:nvPr/>
        </p:nvSpPr>
        <p:spPr>
          <a:xfrm>
            <a:off x="4692600" y="1828800"/>
            <a:ext cx="2921040" cy="2860560"/>
          </a:xfrm>
          <a:prstGeom prst="ellipse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"/>
          <p:cNvSpPr/>
          <p:nvPr/>
        </p:nvSpPr>
        <p:spPr>
          <a:xfrm>
            <a:off x="4149720" y="3159000"/>
            <a:ext cx="2792520" cy="28558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954000" y="1828800"/>
            <a:ext cx="2897280" cy="2905200"/>
          </a:xfrm>
          <a:prstGeom prst="ellipse">
            <a:avLst/>
          </a:prstGeom>
          <a:solidFill>
            <a:srgbClr val="b80047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"/>
          <p:cNvSpPr/>
          <p:nvPr/>
        </p:nvSpPr>
        <p:spPr>
          <a:xfrm>
            <a:off x="2676600" y="1828800"/>
            <a:ext cx="2921040" cy="28605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"/>
          <p:cNvSpPr/>
          <p:nvPr/>
        </p:nvSpPr>
        <p:spPr>
          <a:xfrm>
            <a:off x="2097000" y="3159000"/>
            <a:ext cx="2792520" cy="285588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"/>
          <p:cNvSpPr/>
          <p:nvPr/>
        </p:nvSpPr>
        <p:spPr>
          <a:xfrm>
            <a:off x="3976560" y="395748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19240"/>
            <a:ext cx="82249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elkie  Igrzyska  Olimpijsk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/>
          <p:nvPr/>
        </p:nvSpPr>
        <p:spPr>
          <a:xfrm rot="20220000">
            <a:off x="4857840" y="-36000"/>
            <a:ext cx="1079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Handwriting - Dakota"/>
              </a:rPr>
              <a:t>Ni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"/>
          <p:cNvSpPr/>
          <p:nvPr/>
        </p:nvSpPr>
        <p:spPr>
          <a:xfrm>
            <a:off x="4692600" y="1828800"/>
            <a:ext cx="2921040" cy="2860560"/>
          </a:xfrm>
          <a:prstGeom prst="ellipse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"/>
          <p:cNvSpPr/>
          <p:nvPr/>
        </p:nvSpPr>
        <p:spPr>
          <a:xfrm>
            <a:off x="4041720" y="3159000"/>
            <a:ext cx="2792520" cy="28558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954000" y="1828800"/>
            <a:ext cx="2897280" cy="2905200"/>
          </a:xfrm>
          <a:prstGeom prst="ellipse">
            <a:avLst/>
          </a:prstGeom>
          <a:solidFill>
            <a:srgbClr val="b80047">
              <a:alpha val="1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"/>
          <p:cNvSpPr/>
          <p:nvPr/>
        </p:nvSpPr>
        <p:spPr>
          <a:xfrm>
            <a:off x="2604960" y="1828800"/>
            <a:ext cx="2921040" cy="286056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"/>
          <p:cNvSpPr/>
          <p:nvPr/>
        </p:nvSpPr>
        <p:spPr>
          <a:xfrm>
            <a:off x="2097000" y="3159000"/>
            <a:ext cx="2792520" cy="285588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"/>
          <p:cNvSpPr/>
          <p:nvPr/>
        </p:nvSpPr>
        <p:spPr>
          <a:xfrm>
            <a:off x="260280" y="1481040"/>
            <a:ext cx="1943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łasność praw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"/>
          <p:cNvSpPr/>
          <p:nvPr/>
        </p:nvSpPr>
        <p:spPr>
          <a:xfrm>
            <a:off x="4575240" y="1538280"/>
            <a:ext cx="25556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łasność psychologicz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"/>
          <p:cNvSpPr/>
          <p:nvPr/>
        </p:nvSpPr>
        <p:spPr>
          <a:xfrm>
            <a:off x="725400" y="5665680"/>
            <a:ext cx="2313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łasność kontroln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"/>
          <p:cNvSpPr/>
          <p:nvPr/>
        </p:nvSpPr>
        <p:spPr>
          <a:xfrm>
            <a:off x="1650960" y="281304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"/>
          <p:cNvSpPr/>
          <p:nvPr/>
        </p:nvSpPr>
        <p:spPr>
          <a:xfrm>
            <a:off x="3062160" y="248904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"/>
          <p:cNvSpPr/>
          <p:nvPr/>
        </p:nvSpPr>
        <p:spPr>
          <a:xfrm>
            <a:off x="4367160" y="248904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"/>
          <p:cNvSpPr/>
          <p:nvPr/>
        </p:nvSpPr>
        <p:spPr>
          <a:xfrm>
            <a:off x="2287440" y="4043520"/>
            <a:ext cx="414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"/>
          <p:cNvSpPr/>
          <p:nvPr/>
        </p:nvSpPr>
        <p:spPr>
          <a:xfrm>
            <a:off x="3094200" y="3370320"/>
            <a:ext cx="41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"/>
          <p:cNvSpPr/>
          <p:nvPr/>
        </p:nvSpPr>
        <p:spPr>
          <a:xfrm>
            <a:off x="3976560" y="395748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"/>
          <p:cNvSpPr/>
          <p:nvPr/>
        </p:nvSpPr>
        <p:spPr>
          <a:xfrm>
            <a:off x="3414600" y="4964040"/>
            <a:ext cx="414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19240"/>
            <a:ext cx="82249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zy aspekty własno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60280" y="355680"/>
            <a:ext cx="7840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ok 1. Auto-diagnoz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527280" y="3492360"/>
            <a:ext cx="5106960" cy="286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280" y="110880"/>
            <a:ext cx="8640720" cy="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zgadzasz się, ż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28480" y="1008000"/>
            <a:ext cx="821880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wolą raczej pracę niż bezczynność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chcą zrozumieć otoczenie, w którym żyją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każdy chce, aby jego wybory były mądre i efektywn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każdy chce być traktowany sprawiedliwie i uczciwi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z natury są dobrz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agresja jest efektem wpływu danej sytuacji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każdy może pozytywnie się zmienić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biorą za coś odpowiedzialność jeśli mają na to realny wpływ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chętnie sobie pomagają jeśli wiedzą jak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...ludzie chcą się czuć bezpieczni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6256440" cy="45259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260280" y="355680"/>
            <a:ext cx="7840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ok 2. Diagnoza organizacj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052720" y="1763640"/>
            <a:ext cx="575928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0" spc="-1" strike="noStrike">
                <a:solidFill>
                  <a:srgbClr val="000000"/>
                </a:solidFill>
                <a:latin typeface="Calibri"/>
              </a:rPr>
              <a:t>36%</a:t>
            </a:r>
            <a:endParaRPr b="0" lang="en-US" sz="20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923760" y="1344600"/>
            <a:ext cx="78454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MI – 38         Trust index – 63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770040" y="2970360"/>
          <a:ext cx="7851600" cy="2938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15" name=""/>
          <p:cNvSpPr/>
          <p:nvPr/>
        </p:nvSpPr>
        <p:spPr>
          <a:xfrm flipV="1">
            <a:off x="3949560" y="2098440"/>
            <a:ext cx="1800" cy="865080"/>
          </a:xfrm>
          <a:prstGeom prst="line">
            <a:avLst/>
          </a:prstGeom>
          <a:ln w="468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896080" y="2098440"/>
            <a:ext cx="1440" cy="865080"/>
          </a:xfrm>
          <a:prstGeom prst="line">
            <a:avLst/>
          </a:prstGeom>
          <a:ln w="468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"/>
          <p:cNvSpPr/>
          <p:nvPr/>
        </p:nvSpPr>
        <p:spPr>
          <a:xfrm>
            <a:off x="396720" y="333360"/>
            <a:ext cx="8207640" cy="1008000"/>
          </a:xfrm>
          <a:prstGeom prst="roundRect">
            <a:avLst>
              <a:gd name="adj" fmla="val 16667"/>
            </a:avLst>
          </a:prstGeom>
          <a:solidFill>
            <a:srgbClr val="cd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rebuchet MS"/>
              </a:rPr>
              <a:t>OMI &amp; Trust inde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8" name=""/>
          <p:cNvGraphicFramePr/>
          <p:nvPr/>
        </p:nvGraphicFramePr>
        <p:xfrm>
          <a:off x="360360" y="1339920"/>
          <a:ext cx="8148600" cy="5416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19" name=""/>
          <p:cNvSpPr/>
          <p:nvPr/>
        </p:nvSpPr>
        <p:spPr>
          <a:xfrm>
            <a:off x="396720" y="333360"/>
            <a:ext cx="8207640" cy="1008000"/>
          </a:xfrm>
          <a:prstGeom prst="roundRect">
            <a:avLst>
              <a:gd name="adj" fmla="val 16667"/>
            </a:avLst>
          </a:prstGeom>
          <a:solidFill>
            <a:srgbClr val="cd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Trebuchet MS"/>
              </a:rPr>
              <a:t>Ogólny obraz organizacji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"/>
          <p:cNvSpPr/>
          <p:nvPr/>
        </p:nvSpPr>
        <p:spPr>
          <a:xfrm>
            <a:off x="3357720" y="1428840"/>
            <a:ext cx="19285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57200" y="317520"/>
            <a:ext cx="43434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ok 3. System wynagrodzeń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rudna rzeczywistość płac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57200" y="2452680"/>
          <a:ext cx="8201160" cy="45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52680"/>
                    <a:ext cx="82011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195720" y="5737320"/>
            <a:ext cx="1654200" cy="4348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28600" y="800280"/>
            <a:ext cx="8686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Arial"/>
              </a:rPr>
              <a:t>Pełna partycypacja w zarządzaniu małymi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5400" spc="-1" strike="noStrike">
                <a:solidFill>
                  <a:srgbClr val="000000"/>
                </a:solidFill>
                <a:latin typeface="Arial"/>
              </a:rPr>
              <a:t>i mikro-firmami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yszard Stock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Towarzystwo Doradcz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5133960" y="5715000"/>
            <a:ext cx="822240" cy="7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457200" y="-42840"/>
            <a:ext cx="7543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Krok 2. Eksperci 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49320" y="5486400"/>
            <a:ext cx="772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ok 3. Mapa procesów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06520" y="317520"/>
            <a:ext cx="4294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ok 4. Strategi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0" y="-20808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14440" y="66240"/>
            <a:ext cx="5008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  <a:ea typeface="BookmanLIGHT"/>
              </a:rPr>
              <a:t>En la cooperativa todos somos responsables de todo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”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“W spółdzielni wszyscy jesteśmy odpowiedzialni za wszystko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74760" y="5481360"/>
            <a:ext cx="684360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José María Arizmediarriet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457200" y="1434960"/>
            <a:ext cx="82296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ełna partycypacja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o firma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przyjaciół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9360" y="19080"/>
            <a:ext cx="9133200" cy="683748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080" y="98280"/>
            <a:ext cx="8172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niosek – pełna partycypacja to sięganie po niemożliw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853920" y="1554120"/>
            <a:ext cx="7723440" cy="4565520"/>
          </a:xfrm>
          <a:prstGeom prst="rect">
            <a:avLst/>
          </a:prstGeom>
          <a:ln w="0">
            <a:noFill/>
          </a:ln>
        </p:spPr>
      </p:pic>
      <p:cxnSp>
        <p:nvCxnSpPr>
          <p:cNvPr id="539" name=""/>
          <p:cNvCxnSpPr/>
          <p:nvPr/>
        </p:nvCxnSpPr>
        <p:spPr>
          <a:xfrm flipV="1" rot="10800000">
            <a:off x="3999960" y="2285640"/>
            <a:ext cx="714960" cy="3072600"/>
          </a:xfrm>
          <a:prstGeom prst="bentConnector3">
            <a:avLst>
              <a:gd name="adj1" fmla="val 49974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0" name=""/>
          <p:cNvCxnSpPr/>
          <p:nvPr/>
        </p:nvCxnSpPr>
        <p:spPr>
          <a:xfrm flipV="1" rot="10800000">
            <a:off x="3285360" y="2285640"/>
            <a:ext cx="1429560" cy="21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1" name=""/>
          <p:cNvCxnSpPr/>
          <p:nvPr/>
        </p:nvCxnSpPr>
        <p:spPr>
          <a:xfrm flipV="1" rot="10800000">
            <a:off x="5500080" y="3071520"/>
            <a:ext cx="286200" cy="2215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2" name=""/>
          <p:cNvCxnSpPr/>
          <p:nvPr/>
        </p:nvCxnSpPr>
        <p:spPr>
          <a:xfrm flipV="1" rot="10800000">
            <a:off x="4142520" y="2999880"/>
            <a:ext cx="1572480" cy="235980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3" name=""/>
          <p:cNvCxnSpPr/>
          <p:nvPr/>
        </p:nvCxnSpPr>
        <p:spPr>
          <a:xfrm flipV="1" rot="10800000">
            <a:off x="3357000" y="2928600"/>
            <a:ext cx="2358000" cy="13579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4" name=""/>
          <p:cNvCxnSpPr/>
          <p:nvPr/>
        </p:nvCxnSpPr>
        <p:spPr>
          <a:xfrm flipV="1">
            <a:off x="5785920" y="4857120"/>
            <a:ext cx="43092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5" name=""/>
          <p:cNvCxnSpPr/>
          <p:nvPr/>
        </p:nvCxnSpPr>
        <p:spPr>
          <a:xfrm>
            <a:off x="3499920" y="3071880"/>
            <a:ext cx="361080" cy="2286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6" name=""/>
          <p:cNvCxnSpPr/>
          <p:nvPr/>
        </p:nvCxnSpPr>
        <p:spPr>
          <a:xfrm rot="10800000">
            <a:off x="3357000" y="4428360"/>
            <a:ext cx="2715120" cy="252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47" name=""/>
          <p:cNvCxnSpPr/>
          <p:nvPr/>
        </p:nvCxnSpPr>
        <p:spPr>
          <a:xfrm rot="10800000">
            <a:off x="3785400" y="2856960"/>
            <a:ext cx="2286720" cy="150084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548" name=""/>
          <p:cNvSpPr/>
          <p:nvPr/>
        </p:nvSpPr>
        <p:spPr>
          <a:xfrm>
            <a:off x="396720" y="333360"/>
            <a:ext cx="8207640" cy="1008000"/>
          </a:xfrm>
          <a:prstGeom prst="roundRect">
            <a:avLst>
              <a:gd name="adj" fmla="val 16667"/>
            </a:avLst>
          </a:prstGeom>
          <a:solidFill>
            <a:srgbClr val="cdc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Trebuchet MS"/>
              </a:rPr>
              <a:t>Elementy systemu TP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28760" y="4857840"/>
            <a:ext cx="20001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703760" cy="59436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5440320" y="5478480"/>
            <a:ext cx="3083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lna.partycypacja.p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6858000" y="1577880"/>
            <a:ext cx="2116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rozumieć siebi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858000" y="1577880"/>
            <a:ext cx="2116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rozumieć siebi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060720" y="5400720"/>
            <a:ext cx="5400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czestnictwo w naszych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ach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355680" y="3443400"/>
            <a:ext cx="8294760" cy="828720"/>
          </a:xfrm>
          <a:prstGeom prst="roundRect">
            <a:avLst>
              <a:gd name="adj" fmla="val 1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Łowcy i zbieracze – 2 500 000 l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8664480" y="3436920"/>
            <a:ext cx="41400" cy="828720"/>
          </a:xfrm>
          <a:custGeom>
            <a:avLst/>
            <a:gdLst>
              <a:gd name="textAreaLeft" fmla="*/ 360 w 41400"/>
              <a:gd name="textAreaRight" fmla="*/ 41040 w 41400"/>
              <a:gd name="textAreaTop" fmla="*/ 360 h 828720"/>
              <a:gd name="textAreaBottom" fmla="*/ 828360 h 828720"/>
            </a:gdLst>
            <a:ahLst/>
            <a:rect l="textAreaLeft" t="textAreaTop" r="textAreaRight" b="textAreaBottom"/>
            <a:pathLst>
              <a:path w="21600" h="428834">
                <a:moveTo>
                  <a:pt x="771" y="0"/>
                </a:moveTo>
                <a:arcTo wR="771" hR="771" stAng="16200000" swAng="-5400000"/>
                <a:lnTo>
                  <a:pt x="0" y="428063"/>
                </a:lnTo>
                <a:arcTo wR="771" hR="771" stAng="10800000" swAng="-5400000"/>
                <a:lnTo>
                  <a:pt x="20829" y="428834"/>
                </a:lnTo>
                <a:arcTo wR="771" hR="771" stAng="5400000" swAng="-5400000"/>
                <a:lnTo>
                  <a:pt x="21600" y="771"/>
                </a:lnTo>
                <a:arcTo wR="771" hR="771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8280360" y="4138560"/>
            <a:ext cx="36036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"/>
          <p:cNvSpPr/>
          <p:nvPr/>
        </p:nvSpPr>
        <p:spPr>
          <a:xfrm>
            <a:off x="4319640" y="4564080"/>
            <a:ext cx="3959280" cy="655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sterze i rolnicy ok. 10 000 l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79280" y="249120"/>
            <a:ext cx="4102200" cy="101124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orety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4140360" y="3060720"/>
            <a:ext cx="2339640" cy="34192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79280" y="1515960"/>
            <a:ext cx="2519640" cy="31640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6270480" y="179280"/>
            <a:ext cx="2549520" cy="32403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1079640" y="4011480"/>
            <a:ext cx="2431800" cy="24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2306520" cy="25146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6446880" y="900000"/>
            <a:ext cx="2192400" cy="24289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171360" y="185760"/>
            <a:ext cx="4102200" cy="101124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akty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2859120" y="5373720"/>
            <a:ext cx="1820880" cy="12859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3605040" y="1619280"/>
            <a:ext cx="2514600" cy="7714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5219640" y="503856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6"/>
          <a:stretch/>
        </p:blipFill>
        <p:spPr>
          <a:xfrm>
            <a:off x="4500720" y="2879640"/>
            <a:ext cx="1720800" cy="13240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7"/>
          <a:stretch/>
        </p:blipFill>
        <p:spPr>
          <a:xfrm>
            <a:off x="539640" y="5759280"/>
            <a:ext cx="1470240" cy="8906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8"/>
          <a:stretch/>
        </p:blipFill>
        <p:spPr>
          <a:xfrm>
            <a:off x="2340000" y="1619280"/>
            <a:ext cx="938160" cy="12254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9"/>
          <a:stretch/>
        </p:blipFill>
        <p:spPr>
          <a:xfrm>
            <a:off x="6767640" y="3900600"/>
            <a:ext cx="2232000" cy="13190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7170840" y="360360"/>
            <a:ext cx="1828800" cy="76680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1"/>
          <a:stretch/>
        </p:blipFill>
        <p:spPr>
          <a:xfrm>
            <a:off x="3600360" y="4500720"/>
            <a:ext cx="2522520" cy="6127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2"/>
          <a:stretch/>
        </p:blipFill>
        <p:spPr>
          <a:xfrm>
            <a:off x="179280" y="4175280"/>
            <a:ext cx="2963880" cy="12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260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457200" y="2286000"/>
            <a:ext cx="820728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"/>
          <p:cNvSpPr/>
          <p:nvPr/>
        </p:nvSpPr>
        <p:spPr>
          <a:xfrm>
            <a:off x="1079640" y="3419640"/>
            <a:ext cx="7559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Mieć czy </a:t>
            </a:r>
            <a:r>
              <a:rPr b="0" lang="pl-PL" sz="9600" spc="-1" strike="noStrike">
                <a:solidFill>
                  <a:srgbClr val="000000"/>
                </a:solidFill>
                <a:latin typeface="Calibri"/>
              </a:rPr>
              <a:t>Być</a:t>
            </a:r>
            <a:endParaRPr b="0" lang="en-US" sz="9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73040" y="216000"/>
            <a:ext cx="3986280" cy="642456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1640" y="685800"/>
            <a:ext cx="4111560" cy="59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namika wzrostu własności pracowniczej w Polsce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20:27Z</dcterms:created>
  <dc:creator>apolgrabia</dc:creator>
  <dc:description/>
  <dc:language>en-US</dc:language>
  <cp:lastModifiedBy>Daniel_Lichota</cp:lastModifiedBy>
  <dcterms:modified xsi:type="dcterms:W3CDTF">2009-10-20T07:30:54Z</dcterms:modified>
  <cp:revision>2</cp:revision>
  <dc:subject/>
  <dc:title>Slajd 1</dc:title>
</cp:coreProperties>
</file>