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CDDA0-FB81-4D3D-AF10-AF459FCB2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382608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2F99-FED5-402B-A4ED-3A052FB67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62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8501F-9CD1-4476-9480-E585DC1E2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4920" y="16765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4760" y="16765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3826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4920" y="3826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4760" y="3826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06CB0-E3B8-4E26-B3C8-2CDD94748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440" y="761760"/>
            <a:ext cx="727092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4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3FAE-B0CD-4738-985C-39B61A7242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462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440" y="382608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440" y="382608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462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64920" y="16765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44760" y="16765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440" y="3826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64920" y="3826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44760" y="3826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B4CC8-4E0C-4A62-A06B-79DE837941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440" y="761760"/>
            <a:ext cx="727092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4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7462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440" y="382608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440" y="382608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7462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64920" y="16765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44760" y="16765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440" y="3826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64920" y="3826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44760" y="3826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831A7-3613-4B6F-BF95-C914B9282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760CF-C16F-48D3-8047-1971EB77F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761760"/>
            <a:ext cx="727092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1C4D9-79C5-4A48-9232-D5699BE7E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5F8E-22E9-4202-BA68-B191F4EDED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62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720D5-483B-4A78-AE6B-2CF210D8E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82608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7FBE5-139C-46CD-B45E-D47356D84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2929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Click to edit the outline text format</a:t>
            </a: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  <a:p>
            <a:pPr lvl="1" marL="888840" indent="-43956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Second Outline Level</a:t>
            </a: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  <a:p>
            <a:pPr lvl="2" marL="1293840" indent="-40320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Third Outline Level</a:t>
            </a: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  <a:p>
            <a:pPr lvl="3" marL="1681200" indent="-38592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Fourth Outline Level</a:t>
            </a: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  <a:p>
            <a:pPr lvl="4" marL="2070000" indent="-38736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Fifth Outline Level</a:t>
            </a: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  <a:p>
            <a:pPr lvl="5" marL="2070000" indent="-387360">
              <a:spcBef>
                <a:spcPts val="1800"/>
              </a:spcBef>
              <a:buClr>
                <a:srgbClr val="29292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Sixth Outline Level</a:t>
            </a: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  <a:p>
            <a:pPr lvl="6" marL="2070000" indent="-387360">
              <a:spcBef>
                <a:spcPts val="1800"/>
              </a:spcBef>
              <a:buClr>
                <a:srgbClr val="29292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Seventh Outline Level</a:t>
            </a: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" name="Picture 11" descr=""/>
          <p:cNvPicPr/>
          <p:nvPr/>
        </p:nvPicPr>
        <p:blipFill>
          <a:blip r:embed="rId3"/>
          <a:stretch/>
        </p:blipFill>
        <p:spPr>
          <a:xfrm>
            <a:off x="8459640" y="0"/>
            <a:ext cx="68436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888840" indent="-43956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293840" indent="-40320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681200" indent="-38592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4" marL="2070000" indent="-38736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5" marL="2070000" indent="-387360">
              <a:spcBef>
                <a:spcPts val="18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6" marL="2070000" indent="-387360">
              <a:spcBef>
                <a:spcPts val="18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888840" indent="-43956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293840" indent="-40320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681200" indent="-38592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4" marL="2070000" indent="-38736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5" marL="2070000" indent="-387360">
              <a:spcBef>
                <a:spcPts val="18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6" marL="2070000" indent="-387360">
              <a:spcBef>
                <a:spcPts val="18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ot.krakow.pl/" TargetMode="External"/><Relationship Id="rId3" Type="http://schemas.openxmlformats.org/officeDocument/2006/relationships/hyperlink" Target="http://www.domalopolski.pl/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rewniana.malopolska.pl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ymbol zastępczy stopki 4"/>
          <p:cNvSpPr/>
          <p:nvPr/>
        </p:nvSpPr>
        <p:spPr>
          <a:xfrm>
            <a:off x="32544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16C2-5565-4E45-8E4B-B8992D428818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98400" y="1079280"/>
            <a:ext cx="79250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ct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Garamond"/>
            </a:endParaRPr>
          </a:p>
          <a:p>
            <a:pPr marL="44784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92929"/>
                </a:solidFill>
                <a:latin typeface="Arial"/>
              </a:rPr>
              <a:t>Działania</a:t>
            </a:r>
            <a:endParaRPr b="1" lang="en-US" sz="3200" spc="-1" strike="noStrike">
              <a:solidFill>
                <a:srgbClr val="292929"/>
              </a:solidFill>
              <a:latin typeface="Garamond"/>
            </a:endParaRPr>
          </a:p>
          <a:p>
            <a:pPr marL="44784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92929"/>
                </a:solidFill>
                <a:latin typeface="Arial"/>
              </a:rPr>
              <a:t>Małopolskiej Organizacji Turystycznej </a:t>
            </a:r>
            <a:endParaRPr b="1" lang="en-US" sz="3200" spc="-1" strike="noStrike">
              <a:solidFill>
                <a:srgbClr val="292929"/>
              </a:solidFill>
              <a:latin typeface="Garamond"/>
            </a:endParaRPr>
          </a:p>
          <a:p>
            <a:pPr marL="44784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pl-PL" sz="3200" spc="-1" strike="noStrike">
                <a:solidFill>
                  <a:srgbClr val="292929"/>
                </a:solidFill>
                <a:latin typeface="Arial"/>
              </a:rPr>
              <a:t>w roku 2009</a:t>
            </a:r>
            <a:endParaRPr b="1" lang="en-US" sz="3200" spc="-1" strike="noStrike">
              <a:solidFill>
                <a:srgbClr val="292929"/>
              </a:solidFill>
              <a:latin typeface="Garamond"/>
            </a:endParaRPr>
          </a:p>
          <a:p>
            <a:pPr marL="44784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19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EAA4-622F-4D7B-8D14-92C85D4F8998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Symbol zastępczy stopki 7"/>
          <p:cNvSpPr/>
          <p:nvPr/>
        </p:nvSpPr>
        <p:spPr>
          <a:xfrm>
            <a:off x="32544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Symbol zastępczy daty 8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C9C5-3019-49BE-8BBE-7E04E1776406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416720" cy="6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292929"/>
                </a:solidFill>
                <a:latin typeface="Garamond"/>
              </a:rPr>
              <a:t>Szkolenia, warsztaty, konferencje </a:t>
            </a:r>
            <a:endParaRPr b="1" lang="en-US" sz="3600" spc="-1" strike="noStrike">
              <a:solidFill>
                <a:srgbClr val="292929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62120" y="1562040"/>
          <a:ext cx="7632720" cy="4348080"/>
        </p:xfrm>
        <a:graphic>
          <a:graphicData uri="http://schemas.openxmlformats.org/drawingml/2006/table">
            <a:tbl>
              <a:tblPr/>
              <a:tblGrid>
                <a:gridCol w="600120"/>
                <a:gridCol w="1295280"/>
                <a:gridCol w="3228840"/>
                <a:gridCol w="2508480"/>
              </a:tblGrid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P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RMI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ZEDSIĘWZIĘC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SOWANIE/PARTNERZ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6 lut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Konferencja: Współpraca w zakresie rozwoju i promocji polskiej turystyki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OT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-7 kwietni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przedaż oferty turystycznej przez Internet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Allegro.pl, Allewakacje.pl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914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 czerwc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eminarium: Kultura, muzyka i dziedzictwo regionaln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Małopolski Ośrodek Doradztwa Rolniczego w Karniowicach, Wschodnia Flandri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5259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2-23 czerwc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Konferencja: Turystyka w Polsce w okresie kryzysu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olskie Stowarzyszenie Turystyki, Miasto Kraków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6861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aździernik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Forum Małopolskich Stacji Narciarskich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Województwo Małopolskie, stacje narciarskie, samorządy lokaln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5234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listopad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Forum Małopolskich Lokalnych Organizacji Turystycznych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OT, LOT-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  <p:sp>
        <p:nvSpPr>
          <p:cNvPr id="156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1B81-393E-475B-B7C6-6F8A918582AB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432A-44A8-49F4-A0D4-DC0FA533CE70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98040" y="545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92929"/>
                </a:solidFill>
                <a:latin typeface="Garamond"/>
              </a:rPr>
              <a:t>Konkursy i plebiscyty </a:t>
            </a: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422360"/>
          <a:ext cx="7861320" cy="4592520"/>
        </p:xfrm>
        <a:graphic>
          <a:graphicData uri="http://schemas.openxmlformats.org/drawingml/2006/table">
            <a:tbl>
              <a:tblPr/>
              <a:tblGrid>
                <a:gridCol w="415800"/>
                <a:gridCol w="1838520"/>
                <a:gridCol w="2846160"/>
                <a:gridCol w="2760840"/>
              </a:tblGrid>
              <a:tr h="2289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LP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ERMIN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AZWA PRZEDSIĘWZIĘCIA 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ARTNERZY 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914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yczeń – marzec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„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jlepsza stacja narciarska Małopolski”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jewództwo Małopolskie, POT, TVP 3 Kraków, Radio Kraków Małopolska, Gazeta Krakowsk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wiecień - czerwiec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nkurs na Najlepsze Europejskie Destynacje – EDE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misja Europejska, POT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6861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wiecień - listopad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nkurs na najlepszy produkt turystyczny – CERTYFIKAT Polskiej Organizacji Turystycznej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T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584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j - listopad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miątka z Polski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T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914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zerwiec – wrzesień 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elkie Odkrywanie Małopolski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jewództwo Małopolskie, POT, TV Kraków, Radio Kraków Małopolska, Polska Gazeta Krakowsk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wiecień - listopad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nkurs Odys 2009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rakowska Izba Turystyki, 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j - wrzesień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nkurs fotograficzny „Szlak Architektury Drewnianej”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jewództwo Małopolskie,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  <p:sp>
        <p:nvSpPr>
          <p:cNvPr id="160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9CBB-880D-4659-BC81-41B89F736E09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1C74-89A2-4F9F-9991-26533EF364E4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58360" y="62208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92929"/>
                </a:solidFill>
                <a:latin typeface="Garamond"/>
              </a:rPr>
              <a:t>Public Relations </a:t>
            </a: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85800" y="1676520"/>
          <a:ext cx="7975440" cy="4194000"/>
        </p:xfrm>
        <a:graphic>
          <a:graphicData uri="http://schemas.openxmlformats.org/drawingml/2006/table">
            <a:tbl>
              <a:tblPr/>
              <a:tblGrid>
                <a:gridCol w="511200"/>
                <a:gridCol w="1482840"/>
                <a:gridCol w="3987720"/>
                <a:gridCol w="1993680"/>
              </a:tblGrid>
              <a:tr h="2289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LP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ERMI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AZWA PRZEDSIĘWZIĘCIA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ARTNERZY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I-IV kwartał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Przebudowa serwisów internetowych </a:t>
                      </a:r>
                      <a:r>
                        <a:rPr b="0" lang="pl-PL" sz="1400" spc="-1" strike="noStrike" u="sng">
                          <a:solidFill>
                            <a:srgbClr val="999933"/>
                          </a:solidFill>
                          <a:uFillTx/>
                          <a:latin typeface="Tahoma"/>
                          <a:ea typeface="Times New Roman"/>
                          <a:hlinkClick r:id="rId2"/>
                        </a:rPr>
                        <a:t>www.mot.krakow.pl</a:t>
                      </a: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 i </a:t>
                      </a:r>
                      <a:r>
                        <a:rPr b="0" lang="pl-PL" sz="1400" spc="-1" strike="noStrike" u="sng">
                          <a:solidFill>
                            <a:srgbClr val="999933"/>
                          </a:solidFill>
                          <a:uFillTx/>
                          <a:latin typeface="Tahoma"/>
                          <a:ea typeface="Times New Roman"/>
                          <a:hlinkClick r:id="rId3"/>
                        </a:rPr>
                        <a:t>www.domalopolski.pl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Członkowie MOT, stacje narciar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11433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cały rok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spółpraca z mediami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Polska Gazeta Krakowska, Dziennik Polski, TVP 3 Kraków, Radio Kraków Małopolska,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6861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cały rok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nformacja o Małopolskiej Organizacji Turystycznej; kształtowanie wizerunku Małopolski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Sektor publiczny i prywatny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861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cały rok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Udział przedstawicieli Małopolskiej Organizacji Turystycznej w gremiach opiniotwórczych z zakresie turystyki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Sektor publiczny i prywatn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6861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cały rok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Obejmowanie Patronatem MOT imprez, oraz różnego rodzaju inicjatywy związanych z turystyką w Małopolsce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Sektor publiczny i prywatn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cały rok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Współpraca z Aktualnościami Turystycznymi, portalami turystycznymi i prasą branżową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OT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  <p:sp>
        <p:nvSpPr>
          <p:cNvPr id="164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F79A-8280-4EA9-85F0-B5EBD21FABC1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35C1-7D85-419B-ABBC-60E595837470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1360" y="2349000"/>
            <a:ext cx="727056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92929"/>
                </a:solidFill>
                <a:latin typeface="Garamond"/>
              </a:rPr>
              <a:t>Dziękuję za uwagę </a:t>
            </a: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67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6C7C-3911-447E-BC8F-C8DCB6748604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4144-A4DC-4B27-9EE9-4159C5780378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7960" y="558720"/>
            <a:ext cx="8204400" cy="120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92929"/>
                </a:solidFill>
                <a:latin typeface="Garamond"/>
              </a:rPr>
              <a:t>Otwarty Szlak Architektury Drewnianej – </a:t>
            </a:r>
            <a:br>
              <a:rPr sz="2400"/>
            </a:br>
            <a:r>
              <a:rPr b="1" lang="pl-PL" sz="2400" spc="-1" strike="noStrike">
                <a:solidFill>
                  <a:srgbClr val="292929"/>
                </a:solidFill>
                <a:latin typeface="Garamond"/>
              </a:rPr>
              <a:t>zadanie powierzone przez Województwo Małopolskie. </a:t>
            </a:r>
            <a:br>
              <a:rPr sz="2400"/>
            </a:br>
            <a:r>
              <a:rPr b="1" lang="pl-PL" sz="2400" spc="-1" strike="noStrike">
                <a:solidFill>
                  <a:srgbClr val="292929"/>
                </a:solidFill>
                <a:latin typeface="Garamond"/>
              </a:rPr>
              <a:t>Okres realizacji kwiecień – grudzień 2009 r.</a:t>
            </a: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35040" y="2158920"/>
            <a:ext cx="8128080" cy="40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420840">
              <a:spcBef>
                <a:spcPts val="300"/>
              </a:spcBef>
              <a:buClr>
                <a:srgbClr val="66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292929"/>
                </a:solidFill>
                <a:latin typeface="Garamond"/>
              </a:rPr>
              <a:t>Udostępnienie do zwiedzania 50 obiektów sakralnych</a:t>
            </a:r>
            <a:endParaRPr b="1" lang="en-US" sz="1900" spc="-1" strike="noStrike">
              <a:solidFill>
                <a:srgbClr val="292929"/>
              </a:solidFill>
              <a:latin typeface="Garamond"/>
            </a:endParaRPr>
          </a:p>
          <a:p>
            <a:pPr marL="420840" indent="-420840">
              <a:spcBef>
                <a:spcPts val="300"/>
              </a:spcBef>
              <a:buClr>
                <a:srgbClr val="66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292929"/>
                </a:solidFill>
                <a:latin typeface="Garamond"/>
              </a:rPr>
              <a:t>Organizacja akcji promującej Otwarty Szlak Architektury Drewnianej</a:t>
            </a:r>
            <a:endParaRPr b="1" lang="en-US" sz="1900" spc="-1" strike="noStrike">
              <a:solidFill>
                <a:srgbClr val="292929"/>
              </a:solidFill>
              <a:latin typeface="Garamond"/>
            </a:endParaRPr>
          </a:p>
          <a:p>
            <a:pPr marL="420840" indent="-420840">
              <a:spcBef>
                <a:spcPts val="300"/>
              </a:spcBef>
              <a:buClr>
                <a:srgbClr val="66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292929"/>
                </a:solidFill>
                <a:latin typeface="Garamond"/>
              </a:rPr>
              <a:t>Uzupełnienie oznakowania drogowego szlaku (80 znaków drogowych)</a:t>
            </a:r>
            <a:endParaRPr b="1" lang="en-US" sz="1900" spc="-1" strike="noStrike">
              <a:solidFill>
                <a:srgbClr val="292929"/>
              </a:solidFill>
              <a:latin typeface="Garamond"/>
            </a:endParaRPr>
          </a:p>
          <a:p>
            <a:pPr marL="420840" indent="-420840">
              <a:spcBef>
                <a:spcPts val="300"/>
              </a:spcBef>
              <a:buClr>
                <a:srgbClr val="66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292929"/>
                </a:solidFill>
                <a:latin typeface="Garamond"/>
              </a:rPr>
              <a:t>Konserwacja dużych drewnianych tablic informacyjnych o SAD</a:t>
            </a:r>
            <a:endParaRPr b="1" lang="en-US" sz="1900" spc="-1" strike="noStrike">
              <a:solidFill>
                <a:srgbClr val="292929"/>
              </a:solidFill>
              <a:latin typeface="Garamond"/>
            </a:endParaRPr>
          </a:p>
          <a:p>
            <a:pPr marL="420840" indent="-420840">
              <a:spcBef>
                <a:spcPts val="300"/>
              </a:spcBef>
              <a:buClr>
                <a:srgbClr val="66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292929"/>
                </a:solidFill>
                <a:latin typeface="Garamond"/>
              </a:rPr>
              <a:t>Wykonanie ulotek i mapy (łączny nakład 90 000 egz.)</a:t>
            </a:r>
            <a:endParaRPr b="1" lang="en-US" sz="1900" spc="-1" strike="noStrike">
              <a:solidFill>
                <a:srgbClr val="292929"/>
              </a:solidFill>
              <a:latin typeface="Garamond"/>
            </a:endParaRPr>
          </a:p>
          <a:p>
            <a:pPr marL="420840" indent="-420840">
              <a:spcBef>
                <a:spcPts val="300"/>
              </a:spcBef>
              <a:buClr>
                <a:srgbClr val="66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292929"/>
                </a:solidFill>
                <a:latin typeface="Garamond"/>
              </a:rPr>
              <a:t>Rozbudowa serwisu internetowego </a:t>
            </a:r>
            <a:r>
              <a:rPr b="0" lang="pl-PL" sz="1900" spc="-1" strike="noStrike" u="sng">
                <a:solidFill>
                  <a:srgbClr val="999933"/>
                </a:solidFill>
                <a:uFillTx/>
                <a:latin typeface="Garamond"/>
                <a:hlinkClick r:id="rId2"/>
              </a:rPr>
              <a:t>www.drewniana.malopolska.pl</a:t>
            </a:r>
            <a:endParaRPr b="1" lang="en-US" sz="1900" spc="-1" strike="noStrike">
              <a:solidFill>
                <a:srgbClr val="292929"/>
              </a:solidFill>
              <a:latin typeface="Garamond"/>
            </a:endParaRPr>
          </a:p>
          <a:p>
            <a:pPr marL="420840" indent="-420840">
              <a:spcBef>
                <a:spcPts val="300"/>
              </a:spcBef>
              <a:buClr>
                <a:srgbClr val="66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292929"/>
                </a:solidFill>
                <a:latin typeface="Garamond"/>
              </a:rPr>
              <a:t>Organizacja cyklu koncertów „Muzyka Zaklęta w Drewnie” (12 koncertów)</a:t>
            </a:r>
            <a:endParaRPr b="1" lang="en-US" sz="1900" spc="-1" strike="noStrike">
              <a:solidFill>
                <a:srgbClr val="292929"/>
              </a:solidFill>
              <a:latin typeface="Garamond"/>
            </a:endParaRPr>
          </a:p>
          <a:p>
            <a:pPr marL="420840" indent="-420840">
              <a:spcBef>
                <a:spcPts val="300"/>
              </a:spcBef>
              <a:buClr>
                <a:srgbClr val="66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292929"/>
                </a:solidFill>
                <a:latin typeface="Garamond"/>
              </a:rPr>
              <a:t>Organizacja konkursu fotograficznego i wystawy pokonkursowej</a:t>
            </a:r>
            <a:endParaRPr b="1" lang="en-US" sz="1900" spc="-1" strike="noStrike">
              <a:solidFill>
                <a:srgbClr val="292929"/>
              </a:solidFill>
              <a:latin typeface="Garamond"/>
            </a:endParaRPr>
          </a:p>
          <a:p>
            <a:pPr marL="420840" indent="-420840">
              <a:spcBef>
                <a:spcPts val="300"/>
              </a:spcBef>
              <a:buClr>
                <a:srgbClr val="66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292929"/>
                </a:solidFill>
                <a:latin typeface="Garamond"/>
              </a:rPr>
              <a:t>Organizacja 2 wizyt studyjnych</a:t>
            </a:r>
            <a:endParaRPr b="1" lang="en-US" sz="1900" spc="-1" strike="noStrike">
              <a:solidFill>
                <a:srgbClr val="292929"/>
              </a:solidFill>
              <a:latin typeface="Garamond"/>
            </a:endParaRPr>
          </a:p>
          <a:p>
            <a:pPr marL="420840" indent="-420840">
              <a:spcBef>
                <a:spcPts val="300"/>
              </a:spcBef>
              <a:buClr>
                <a:srgbClr val="66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292929"/>
                </a:solidFill>
                <a:latin typeface="Garamond"/>
              </a:rPr>
              <a:t>Organizacja seminarium </a:t>
            </a:r>
            <a:endParaRPr b="1" lang="en-US" sz="19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24" name="Symbol zastępczy daty 1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DE53-5336-41E4-9DAD-8AE858BD1679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Symbol zastępczy numeru slajdu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5800-7B30-4B11-AC3A-2465BF5AC639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92929"/>
                </a:solidFill>
                <a:latin typeface="Garamond"/>
              </a:rPr>
              <a:t>Zagraniczne targi turystyczne – współpraca z  samorządami terytorialnymi branżą turystyczną</a:t>
            </a: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5800" y="1676520"/>
          <a:ext cx="7912080" cy="4192560"/>
        </p:xfrm>
        <a:graphic>
          <a:graphicData uri="http://schemas.openxmlformats.org/drawingml/2006/table">
            <a:tbl>
              <a:tblPr/>
              <a:tblGrid>
                <a:gridCol w="900000"/>
                <a:gridCol w="1703520"/>
                <a:gridCol w="2870280"/>
                <a:gridCol w="2438280"/>
              </a:tblGrid>
              <a:tr h="280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P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ERMI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AZWA TARGÓW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EJSCE TARGÓW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281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-11.01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ISELIV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slo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80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-18.01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ERIEN MESSE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iedeń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81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-18.01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TKA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elsinki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80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-18.01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JOSPFEST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zym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588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01-2.02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ITUR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dryt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81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-9.02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ALON DE VACANCES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uksela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80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-15.03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TB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erlin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81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-21.03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TT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skwa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80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-22.02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IT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diolan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81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-22.03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P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yż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80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-28.03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OB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zym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81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-19.04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TC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celona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80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-8.10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KRAINE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ijów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81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-12.11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TM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ondyn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  <p:sp>
        <p:nvSpPr>
          <p:cNvPr id="128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259E-D02A-446F-A722-01681788FF35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7CE5-5E47-4E50-B034-A3EBF5D55C8F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1015920"/>
            <a:ext cx="727092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292929"/>
                </a:solidFill>
                <a:latin typeface="Garamond"/>
              </a:rPr>
              <a:t>Krajowe targi turystyczne </a:t>
            </a:r>
            <a:br>
              <a:rPr sz="2800"/>
            </a:br>
            <a:r>
              <a:rPr b="1" lang="pl-PL" sz="2800" spc="-1" strike="noStrike">
                <a:solidFill>
                  <a:srgbClr val="292929"/>
                </a:solidFill>
                <a:latin typeface="Garamond"/>
              </a:rPr>
              <a:t>– współpraca z  samorządami terytorialnymi i branżą turystyczną</a:t>
            </a:r>
            <a:endParaRPr b="1" lang="en-US" sz="2800" spc="-1" strike="noStrike">
              <a:solidFill>
                <a:srgbClr val="292929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2133720"/>
          <a:ext cx="7925040" cy="2225520"/>
        </p:xfrm>
        <a:graphic>
          <a:graphicData uri="http://schemas.openxmlformats.org/drawingml/2006/table">
            <a:tbl>
              <a:tblPr/>
              <a:tblGrid>
                <a:gridCol w="863640"/>
                <a:gridCol w="1981440"/>
                <a:gridCol w="3098520"/>
                <a:gridCol w="1981440"/>
              </a:tblGrid>
              <a:tr h="371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P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ERMI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AZWA TARGÓW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EJSCE TARGÓW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3697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-22.02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tourex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snowiec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-5.04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rakowski Salon Turystyczn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raków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97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4-26.04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to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arszaw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4-26.09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T Warsaw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arszaw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71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-24.10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ur Salo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znań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  <p:sp>
        <p:nvSpPr>
          <p:cNvPr id="132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9756-FE34-4277-9C52-79330E4171B1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7332-4B57-458B-BD03-7E0CB96611F3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92929"/>
                </a:solidFill>
                <a:latin typeface="Garamond"/>
              </a:rPr>
              <a:t>Wydawnictwa</a:t>
            </a: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35040" y="1905120"/>
          <a:ext cx="7924680" cy="2984400"/>
        </p:xfrm>
        <a:graphic>
          <a:graphicData uri="http://schemas.openxmlformats.org/drawingml/2006/table">
            <a:tbl>
              <a:tblPr/>
              <a:tblGrid>
                <a:gridCol w="774720"/>
                <a:gridCol w="1384200"/>
                <a:gridCol w="2768760"/>
                <a:gridCol w="2997000"/>
              </a:tblGrid>
              <a:tr h="4539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LP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ERMI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AZWA PRZEDSIĘWZIĘCIA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FINANSOWANIE/PARTNERZ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5414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I kwartał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Małopolska aktywnie i na sportowo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ojewództwo Małopolskie, Krakowska Izba Turystyki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5396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I kwartał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Mapa Szlaku Architektury Drewnianej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396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I kwartał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Ulotki o Szlaku Architektury Drewnianej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5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II kwartał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Zamki i twierdze Małopolski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539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V kwartał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Trasa Smakosz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POT, 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  <p:sp>
        <p:nvSpPr>
          <p:cNvPr id="136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9A32-733C-4163-AFA2-CB83603946ED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F771-8F08-4714-996E-FADE742F8081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92929"/>
                </a:solidFill>
                <a:latin typeface="Garamond"/>
              </a:rPr>
              <a:t>Badania ruchu turystycznego</a:t>
            </a: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47640" y="2146320"/>
          <a:ext cx="7925040" cy="2055960"/>
        </p:xfrm>
        <a:graphic>
          <a:graphicData uri="http://schemas.openxmlformats.org/drawingml/2006/table">
            <a:tbl>
              <a:tblPr/>
              <a:tblGrid>
                <a:gridCol w="609840"/>
                <a:gridCol w="1638000"/>
                <a:gridCol w="3695760"/>
                <a:gridCol w="1981440"/>
              </a:tblGrid>
              <a:tr h="6444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LP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ERMI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AZWA PRZEDSIĘWZIĘCIA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FINANSOWANIE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7668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 i III kwartał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Badania ruchu turystycznego w Województwie Małopolskim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44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I i III kwartał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Badania ruchu turystycznego w Krakow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Miasto Kraków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  <p:sp>
        <p:nvSpPr>
          <p:cNvPr id="140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099A-66BC-4B19-A089-DB0C0DBF8E6F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5D80-244D-4116-A6F6-7BEAD18B1BEB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292929"/>
                </a:solidFill>
                <a:latin typeface="Garamond"/>
              </a:rPr>
              <a:t>Nowe Produkty Turystyczne</a:t>
            </a: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98400" y="2082960"/>
          <a:ext cx="7925040" cy="1066680"/>
        </p:xfrm>
        <a:graphic>
          <a:graphicData uri="http://schemas.openxmlformats.org/drawingml/2006/table">
            <a:tbl>
              <a:tblPr/>
              <a:tblGrid>
                <a:gridCol w="723960"/>
                <a:gridCol w="1650960"/>
                <a:gridCol w="3568680"/>
                <a:gridCol w="1981440"/>
              </a:tblGrid>
              <a:tr h="4870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LP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ERMI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AZWA PRZEDSIĘWZIĘCIA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FINANSOWANIE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5796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I-IV kwartał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Trasa Smakosz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POT, 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  <p:sp>
        <p:nvSpPr>
          <p:cNvPr id="144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03A7-A0DD-4962-BF4C-10AD7F75561A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24F0-C729-4370-95FC-2A132760A796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2929"/>
                </a:solidFill>
                <a:latin typeface="Garamond"/>
              </a:rPr>
              <a:t>Study press/study tours</a:t>
            </a: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85800" y="2019240"/>
          <a:ext cx="7924680" cy="2997360"/>
        </p:xfrm>
        <a:graphic>
          <a:graphicData uri="http://schemas.openxmlformats.org/drawingml/2006/table">
            <a:tbl>
              <a:tblPr/>
              <a:tblGrid>
                <a:gridCol w="469800"/>
                <a:gridCol w="1282680"/>
                <a:gridCol w="3581640"/>
                <a:gridCol w="2590560"/>
              </a:tblGrid>
              <a:tr h="5396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P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ERMI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AZWA PRZEDSIĘWZIĘCI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INANSOWANIE/PARTNERZ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0987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ły rok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izyty zagranicznych dziennikarzy i touroperatorów rekomendowanych przez Polską Organizację Turystyczną oraz Ośrodki Zagraniczne POT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jewództwo Małopolskie, Miasto Kraków, samorządy, branża turystyczn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5396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I–III kwartał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izyty krajowych dziennikarzy po Szlaku Architektury Drewnianej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8193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I–III kwartał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izyty dziennikarzy i touroperatorów Szlakiem „tarnowskich niezwykłości” po subregionie tarnowskim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jewództwo Małopolskie, Tarnowskie Centrum Informacji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  <p:sp>
        <p:nvSpPr>
          <p:cNvPr id="148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2577-CB18-4498-AF5F-DADD2C6EFC04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8D5E-69FF-4A58-994E-17FA4DED92CF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27092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92929"/>
                </a:solidFill>
                <a:latin typeface="Garamond"/>
              </a:rPr>
              <a:t>Imprezy i akcje promocyjne</a:t>
            </a: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85800" y="1676520"/>
          <a:ext cx="7924680" cy="4216320"/>
        </p:xfrm>
        <a:graphic>
          <a:graphicData uri="http://schemas.openxmlformats.org/drawingml/2006/table">
            <a:tbl>
              <a:tblPr/>
              <a:tblGrid>
                <a:gridCol w="990720"/>
                <a:gridCol w="1333440"/>
                <a:gridCol w="3619440"/>
                <a:gridCol w="1981080"/>
              </a:tblGrid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LP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ERMI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AZWA PRZEDSIĘWZIĘCIA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FINANSOWANIE/PARTNERZ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23 kwietni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5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Prezentacja Krakowa i Małopolski w Bratysław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Miasto Kraków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16 maj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5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Dzień Europy w Kijow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Miasto Tarnów, POIT Kijów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914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10 – 12 lipc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5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Future Stars 2009 (Londyn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ojewództwo Małopolskie, Krakowska Izba Turystyki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12-13, 19-20 wrześni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5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Europejskie Dni Dziedzictwa Kulturowego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6861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6 – 8 października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5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Jarmark Zima w Małopolsce (Kijów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ojewództwo Małopolskie, stacje narciar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6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październik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5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Małopolskie Obchody Światowego Dnia Turystyki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7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12 grudni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5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nauguracja sezonu narciarskiego w Małopolsc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  <p:sp>
        <p:nvSpPr>
          <p:cNvPr id="152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3ED8-173D-4F5B-9866-9AA408BAFC6C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5F00-FC16-4AF1-96E6-8ACCB74B0EB6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11:52:35Z</dcterms:created>
  <dc:creator>mirek mot</dc:creator>
  <dc:description/>
  <dc:language>en-US</dc:language>
  <cp:lastModifiedBy>mot</cp:lastModifiedBy>
  <dcterms:modified xsi:type="dcterms:W3CDTF">2009-06-25T09:50:59Z</dcterms:modified>
  <cp:revision>200</cp:revision>
  <dc:subject/>
  <dc:title>Parent Bill of Righ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1251033</vt:lpwstr>
  </property>
</Properties>
</file>