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64CAF7-DC18-4A03-90CD-D49D444F4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671-0F20-4958-9796-1310946D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2F8-2102-4193-AC36-4DE212D2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995-2C21-4F9A-B8E0-38E23146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441-0B36-496B-BFC6-22427F2F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DC4-B34D-4964-AADE-30294F91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3FF-F69D-416C-8447-3355E0E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BF0-1BCC-4FA1-B9FC-B8A3EC87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72A-764D-40BE-829A-04F8392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915-8A85-4671-B385-D7C4588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11C-A5A2-4C83-9692-5EE1E23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D0E-EEFF-46C8-8527-4BFC2EC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3AC-0AC4-4DF9-8C14-6F15C01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973759-C336-4DC3-9E03-A1FBCE25E6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480" y="2977920"/>
            <a:ext cx="8227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Sans Serif"/>
              </a:rPr>
              <a:t>Ruch turystyczny w Krakow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icrosoft Sans Serif"/>
              </a:rPr>
              <a:t>w 2008 roku</a:t>
            </a:r>
            <a:br>
              <a:rPr sz="4400"/>
            </a:b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5243400"/>
            <a:ext cx="1657080" cy="138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1640" y="0"/>
            <a:ext cx="2592360" cy="2489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46760" y="647712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Kraków grudzień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23840" y="248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95480" y="3206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168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a przyjazdów cudzoziemców do Krakowa według wybranych państw w 2008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765000"/>
          <a:ext cx="9144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168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a przyjazdów cudzoziemców do Krakowa według wybranych państw w 2008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711360"/>
          <a:ext cx="86043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11360"/>
                    <a:ext cx="86043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ktura % przyjazdów Polaków do Krakowa z miejsca zamieszkania według województw w 2008 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-23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181080" y="952560"/>
          <a:ext cx="95774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952560"/>
                    <a:ext cx="9577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4360" y="1875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OGÓŁ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549360"/>
          <a:ext cx="896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1141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KRAJO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520560"/>
          <a:ext cx="896472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0560"/>
                    <a:ext cx="896472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4360" y="187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ZAGRANIC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1280" y="549360"/>
          <a:ext cx="896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549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a środków transportu podczas przyjazdów do Krakowa (odwiedzający krajow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125360"/>
          <a:ext cx="81946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946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a środków transportu podczas przyjazdów do Krakowa (odwiedz.  zagraniczn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8360" y="1125360"/>
          <a:ext cx="81946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946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4360" y="927000"/>
          <a:ext cx="8820360" cy="600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927000"/>
                    <a:ext cx="882036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84360" y="-50400"/>
            <a:ext cx="799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gości krajowych i zagranicznych przyjeżdżając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Krakowa w 2008 roku wg miejsca zakwaterow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ne szacunkow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łu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0400" y="5516640"/>
            <a:ext cx="1263600" cy="720720"/>
          </a:xfrm>
          <a:prstGeom prst="rightArrow">
            <a:avLst>
              <a:gd name="adj1" fmla="val 50000"/>
              <a:gd name="adj2" fmla="val 4383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020000">
            <a:off x="5659560" y="5005080"/>
            <a:ext cx="1368360" cy="663480"/>
          </a:xfrm>
          <a:custGeom>
            <a:avLst/>
            <a:gdLst>
              <a:gd name="textAreaLeft" fmla="*/ 231840 w 1368360"/>
              <a:gd name="textAreaRight" fmla="*/ 1001160 w 1368360"/>
              <a:gd name="textAreaTop" fmla="*/ 88920 h 663480"/>
              <a:gd name="textAreaBottom" fmla="*/ 57456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18" hR="21600" stAng="10800000" swAng="-5400000"/>
                <a:lnTo>
                  <a:pt x="12144" y="21600"/>
                </a:lnTo>
                <a:arcTo wR="7318" hR="21600" stAng="5400000" swAng="-2787373"/>
                <a:lnTo>
                  <a:pt x="21248" y="6620"/>
                </a:lnTo>
                <a:lnTo>
                  <a:pt x="17048" y="0"/>
                </a:lnTo>
                <a:lnTo>
                  <a:pt x="12144" y="6620"/>
                </a:lnTo>
                <a:lnTo>
                  <a:pt x="14283" y="6620"/>
                </a:lnTo>
                <a:arcTo wR="7318" hR="21600" stAng="2612627" swAng="2382461"/>
                <a:lnTo>
                  <a:pt x="9731" y="20392"/>
                </a:lnTo>
                <a:arcTo wR="7318" hR="21600" stAng="5804912" swAng="4995088"/>
                <a:close/>
              </a:path>
              <a:path fill="darkenLess" w="21600" h="21600">
                <a:moveTo>
                  <a:pt x="0" y="0"/>
                </a:moveTo>
                <a:arcTo wR="7318" hR="21600" stAng="10800000" swAng="-5400000"/>
                <a:lnTo>
                  <a:pt x="12144" y="21600"/>
                </a:lnTo>
                <a:arcTo wR="7318" hR="21600" stAng="5400000" swAng="404912"/>
                <a:lnTo>
                  <a:pt x="9731" y="20392"/>
                </a:lnTo>
                <a:arcTo wR="7318" hR="21600" stAng="5804912" swAng="4995088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9240" y="544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2655720"/>
            <a:ext cx="1656000" cy="486000"/>
          </a:xfrm>
          <a:prstGeom prst="leftRightArrow">
            <a:avLst>
              <a:gd name="adj1" fmla="val 50000"/>
              <a:gd name="adj2" fmla="val 6783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2421000"/>
            <a:ext cx="914400" cy="914400"/>
          </a:xfrm>
          <a:prstGeom prst="smileyFace">
            <a:avLst>
              <a:gd name="adj" fmla="val -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544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95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81240" y="134136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066680"/>
          <a:ext cx="792000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66680"/>
                    <a:ext cx="79200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4360" y="257760"/>
            <a:ext cx="7991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ystów nocujących w Krakowie w 2008 ro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hotelach wg katego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ne szacunkow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łu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3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3519360"/>
            <a:ext cx="1655640" cy="486000"/>
          </a:xfrm>
          <a:prstGeom prst="leftRightArrow">
            <a:avLst>
              <a:gd name="adj1" fmla="val 50000"/>
              <a:gd name="adj2" fmla="val 6781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21240" y="3357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240" y="63817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8000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62680" y="20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57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12,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7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87,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8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5.5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074960"/>
            <a:ext cx="9144000" cy="402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czas pobytu w Krakowi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 rok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ście wydali pon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2 miliardy 800 milionów z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-7920"/>
            <a:ext cx="89647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zas pobytu 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8 ro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Krakowie goście wydali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bez kosztów dojazdu i opłaconego wcześniej noclegu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jowi średni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ł na osobę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raniczni średni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8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ł na osobę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je to miastu 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ku po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 miliardy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800 milionów z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500 mln zł*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800 mln z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k 2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400 mln z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k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300 mln z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800 mln z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20520" y="6235560"/>
            <a:ext cx="92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* - IPSOS w obliczył wydatki w 2007 roku wraz z kosztami transportu do Krak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4874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je odwiedzających Kraków w 2008 rok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żliwości wydatkowania większych sum pienięż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160" y="1357200"/>
          <a:ext cx="9169200" cy="50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357200"/>
                    <a:ext cx="916920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551240" y="5148360"/>
            <a:ext cx="178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Źródło: Opracowanie wła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zy byłby/aby Pan/i skłonny/a wydać więcej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1903320"/>
            <a:ext cx="78487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kładając, że każd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deklarującyc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„tak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yłby skłonny wydać tylko o 1/10 więcej, to w skali roku Kraków mógłby zyskać dodatkow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.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ilionów z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5280" y="907920"/>
            <a:ext cx="8356680" cy="5553360"/>
            <a:chOff x="395280" y="907920"/>
            <a:chExt cx="8356680" cy="5553360"/>
          </a:xfrm>
        </p:grpSpPr>
        <p:graphicFrame>
          <p:nvGraphicFramePr>
            <p:cNvPr id="304" name=""/>
            <p:cNvGraphicFramePr/>
            <p:nvPr/>
          </p:nvGraphicFramePr>
          <p:xfrm>
            <a:off x="395280" y="907920"/>
            <a:ext cx="8356680" cy="555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907920"/>
                      <a:ext cx="8356680" cy="55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6" name=""/>
            <p:cNvSpPr/>
            <p:nvPr/>
          </p:nvSpPr>
          <p:spPr>
            <a:xfrm>
              <a:off x="395280" y="907920"/>
              <a:ext cx="8356680" cy="55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na wysokości cen do jakości świadczonych usług  - odwiedzający krajowi - Kraków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95280" y="907920"/>
            <a:ext cx="8356680" cy="5553360"/>
            <a:chOff x="395280" y="907920"/>
            <a:chExt cx="8356680" cy="5553360"/>
          </a:xfrm>
        </p:grpSpPr>
        <p:graphicFrame>
          <p:nvGraphicFramePr>
            <p:cNvPr id="309" name=""/>
            <p:cNvGraphicFramePr/>
            <p:nvPr/>
          </p:nvGraphicFramePr>
          <p:xfrm>
            <a:off x="395280" y="907920"/>
            <a:ext cx="8356680" cy="555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907920"/>
                      <a:ext cx="8356680" cy="55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395280" y="907920"/>
              <a:ext cx="8356680" cy="55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na wysokości cen do jakości świadczonych usług  - odwiedzający zagraniczni - Kraków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611280" y="44280"/>
            <a:ext cx="7846560" cy="6730920"/>
            <a:chOff x="611280" y="44280"/>
            <a:chExt cx="7846560" cy="6730920"/>
          </a:xfrm>
        </p:grpSpPr>
        <p:sp>
          <p:nvSpPr>
            <p:cNvPr id="314" name=""/>
            <p:cNvSpPr/>
            <p:nvPr/>
          </p:nvSpPr>
          <p:spPr>
            <a:xfrm>
              <a:off x="7259760" y="44280"/>
              <a:ext cx="1196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n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66360" y="44280"/>
              <a:ext cx="1193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zagra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0080" y="44280"/>
              <a:ext cx="1196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r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280" y="44280"/>
              <a:ext cx="4258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RAKCJE W KRAKOWI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59760" y="64706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66360" y="64706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0080" y="64706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280" y="64706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js po Wiś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59760" y="6167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66360" y="61675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0080" y="6167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1280" y="61675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zeum Narodow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59760" y="58644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6360" y="586440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0080" y="58644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1280" y="586440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k Wodn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59760" y="5561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66360" y="55612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0080" y="5561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280" y="55612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atr im. J. Słowackie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59760" y="5258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66360" y="52585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70080" y="5258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1280" y="52585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gium Mai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59760" y="49554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6360" y="49554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70080" y="49554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280" y="49554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59760" y="46519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66360" y="465192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0080" y="46519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280" y="465192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piec Kościuszk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59760" y="43491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66360" y="434916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0080" y="43491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1280" y="434916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onia (imprezy plenerowe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59760" y="40460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6360" y="40460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0080" y="40460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1280" y="40460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zylika Cystersów w Mog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59760" y="3743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66360" y="37432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0080" y="3743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280" y="37432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zeum XX. Czartoryski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59760" y="34398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66360" y="343980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080" y="34398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343980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lwary Wiśla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760" y="31366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66360" y="31366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0080" y="31366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280" y="31366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leria Krakowsk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9760" y="28339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66360" y="28339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0080" y="28339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1280" y="28339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actwo Ojców Benedyktynów w Tyńc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59760" y="25308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66360" y="25308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0080" y="25308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1280" y="25308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bakan (w tym Brama Floriańsk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9760" y="222768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360" y="222768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0080" y="222768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1280" y="222768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wa Huta (pl. Centralny, szlak socrealizmu i in.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59760" y="19245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66360" y="192456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0080" y="19245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1280" y="192456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kienni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59760" y="1621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66360" y="16214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70080" y="1621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1280" y="16214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ktuarium Bożego Miłosierdzia w Łagiewnika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59760" y="13183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6360" y="131832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0080" y="13183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280" y="131832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zylika Mariacka (w tym ołtarz Wita Stwosz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760" y="10152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66360" y="10152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1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0080" y="10152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10152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zielnica Kazimierz (synagogi, kawiarnie, koncerty itd.)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59760" y="712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66360" y="7124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0080" y="712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1280" y="7124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wel (Komnaty, Katedra, Dzwon Zygmunta, smok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9760" y="4093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66360" y="4093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0080" y="4093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280" y="4093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ynek Główny (Stare Miasto, Droga Królewsk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280" y="4428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1280" y="677376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1280" y="44280"/>
              <a:ext cx="108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45640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1280" y="7124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008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636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5976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1280" y="10152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1280" y="131832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1280" y="16214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280" y="192456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1280" y="222768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253080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1280" y="28339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1280" y="31366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1280" y="34398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1280" y="37432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1280" y="40460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1280" y="434916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1280" y="465192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1280" y="495540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1280" y="52585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1280" y="55612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1280" y="58644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1280" y="61675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1280" y="64706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1280" y="4093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cjalne produkty turystyczne Krakow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komendacja Krakowa jako destynacji turystyczn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Prawie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wszyscy turyści 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91% z kraj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86% z zagrani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polecą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Kraków swoim znajomy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16344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klaracja ponownego przyjazdu do Krakow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5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wiedzającyc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agraniczny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amierza ponownie przyjechać do Krakowa, przy czy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decydowanie zdeklarowanych je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 proporcje można zaobserwować wśród odwiedzającyc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rajowy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Pona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9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wiedzających wyraziło wolę ponownego przyjazdu do Krakowa, z tego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jest jednoznacznie zdecydowany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80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1.54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7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86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6.4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11280" y="308448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22400" y="312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77840" indent="0" algn="ctr">
              <a:lnSpc>
                <a:spcPct val="100000"/>
              </a:lnSpc>
              <a:buNone/>
              <a:tabLst>
                <a:tab algn="l" pos="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1136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Ruch turystyczny w Krakowi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w 2008 roku</a:t>
            </a:r>
            <a:br>
              <a:rPr sz="3400"/>
            </a:br>
            <a:br>
              <a:rPr sz="3400"/>
            </a:b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Badania monitoringow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 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541920" y="4475160"/>
            <a:ext cx="2206800" cy="197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2249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82560" y="2637000"/>
            <a:ext cx="532944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 Tadeusz Grabi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Krzysztof Borkow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Renata Sewer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Anna Wilkoń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r Leszek Maz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Recenzja nau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 Anna Nowakow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zek Kozio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03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2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9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7.1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26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0,6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45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,3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55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8.0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IP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49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5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56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8.06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72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28,8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5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71,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3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7.45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450720"/>
            <a:ext cx="82278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uktura ruchu turystyczneg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 2008 r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9280" y="2379600"/>
            <a:ext cx="8783280" cy="2271240"/>
            <a:chOff x="179280" y="2379600"/>
            <a:chExt cx="8783280" cy="2271240"/>
          </a:xfrm>
        </p:grpSpPr>
        <p:sp>
          <p:nvSpPr>
            <p:cNvPr id="195" name=""/>
            <p:cNvSpPr/>
            <p:nvPr/>
          </p:nvSpPr>
          <p:spPr>
            <a:xfrm>
              <a:off x="7661520" y="4089960"/>
              <a:ext cx="1299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55680" y="4089960"/>
              <a:ext cx="19058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0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00440" y="4089960"/>
              <a:ext cx="20563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5440" y="4089960"/>
              <a:ext cx="1755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9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9280" y="4089960"/>
              <a:ext cx="1766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y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1520" y="3267360"/>
              <a:ext cx="1299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55680" y="3267360"/>
              <a:ext cx="19058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7.45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0440" y="3267360"/>
              <a:ext cx="20563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5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5440" y="3267360"/>
              <a:ext cx="1755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3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3267360"/>
              <a:ext cx="17661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gółem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61520" y="2379600"/>
              <a:ext cx="129960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% ogół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55680" y="2379600"/>
              <a:ext cx="190584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z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0440" y="2379600"/>
              <a:ext cx="205632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5440" y="2379600"/>
              <a:ext cx="175500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280" y="2379600"/>
              <a:ext cx="176616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280" y="237960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9280" y="46497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928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61480" y="2379600"/>
              <a:ext cx="108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9280" y="32673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544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044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55680" y="2379600"/>
              <a:ext cx="108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152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280" y="408996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3960" y="3875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960" y="38577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144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100160"/>
          <a:ext cx="889308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0160"/>
                    <a:ext cx="889308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200" y="474840"/>
            <a:ext cx="89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acunkowa liczba turystów w Krakowie w latach 2003-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zysztof Borkowski</dc:creator>
  <dc:description/>
  <dc:language>en-US</dc:language>
  <cp:lastModifiedBy>mot</cp:lastModifiedBy>
  <dcterms:modified xsi:type="dcterms:W3CDTF">2009-06-25T07:08:33Z</dcterms:modified>
  <cp:revision>2</cp:revision>
  <dc:subject/>
  <dc:title>Ruch turystyczny w Krakowie  w 2008 roku   </dc:title>
</cp:coreProperties>
</file>